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51C5-CB95-4E33-BE01-4268F661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244C-AD4E-493B-9CB5-C68E750C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5A1-2F76-4CAE-9625-641F707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BC3C-611A-4557-9B21-4E5D11197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14E-312C-4E42-B0BC-EBE69A89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4100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30080" y="114264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2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4100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30080" y="384912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276-26CD-47D9-B419-B999916B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05B-0953-4CC5-9E62-E8BA4F55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B7B-FFFD-412E-B2C4-1C64F7A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763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6EB-2608-4AB0-86A3-406E777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EE0-EA54-43EF-86EA-87DE1E48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4912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A33-0931-4632-BBC5-D1106DB7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114264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4912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D0C-09DA-4FAC-A6E9-73572D1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52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4491-3C51-4F8D-BCCB-474B7D35BFA3}" type="datetime5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209680" y="6400440"/>
            <a:ext cx="4724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94C0-D83D-464A-965F-6CCEE9203CC3}" type="slidenum">
              <a:rPr b="0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ff99"/>
                </a:solidFill>
                <a:latin typeface="Trebuchet MS"/>
              </a:rPr>
              <a:t>Click to edit the title text format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43" name=""/>
          <p:cNvSpPr/>
          <p:nvPr/>
        </p:nvSpPr>
        <p:spPr>
          <a:xfrm>
            <a:off x="3489480" y="574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15328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ff99"/>
                </a:solidFill>
                <a:latin typeface="Trebuchet MS"/>
              </a:rPr>
              <a:t>XML Schema</a:t>
            </a:r>
            <a:endParaRPr b="1" lang="en-US" sz="48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ultiple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Model Group Extens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or safety, refer to group as first particle in sequ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lies with extension of complex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 is not very clear about what's a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505320"/>
            <a:ext cx="8610480" cy="25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define schemaLocation="flight.xs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name="flight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group ref="fl:fligh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lement ref="fl:price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defin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D68-D45C-469B-A604-98963343BF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887C5-1240-4F7D-A829-100352661D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Model Group Restri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ules of thum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content valid for redefined group must also be valid for original grou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ways preserve order of particles, even in choices and grou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alid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itting an optional parti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hanging min/max occurrence (within original's lim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xing order of occurrence from all or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pecifying element in place of wild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ing the type of an element more restric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dding a default or fixed val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ing a default value fix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F724-415C-45AB-BDCB-D418CBCD0C2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57B9D-46E0-4DD0-8AFE-D56D58A2BC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Model Group Restri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1219320"/>
            <a:ext cx="8610480" cy="1981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group name="flight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choice maxOccurs="3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ref="fl:arrive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any namespace="##local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choic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3467160"/>
            <a:ext cx="8610480" cy="2857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redefine schemaLocation="flight.xsd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group name="flight"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sequenc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name="price" form="unqualified"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ype="xs:decimal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ref="fl:depart" /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xs:element ref="fl:arrive" /&gt;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sequenc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group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/xs:redefine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15" name=""/>
          <p:cNvCxnSpPr>
            <a:stCxn id="113" idx="2"/>
            <a:endCxn id="114" idx="0"/>
          </p:cNvCxnSpPr>
          <p:nvPr/>
        </p:nvCxnSpPr>
        <p:spPr>
          <a:xfrm>
            <a:off x="4533480" y="3200040"/>
            <a:ext cx="1080" cy="2671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1FB6-CF7F-4AD4-A748-D342FD820A9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89DD6-BABC-4976-B2D8-AFE050E4DE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ummary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e schemas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inclu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ort schemas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impor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be used if referring to declarations from another name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define schemas with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s:redef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trict simple typ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d or restrict attribute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d or restrict named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855-7090-4397-8EDD-706257AD80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468AE-AEB4-49C2-A41C-ED102587B8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Exercise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plit up schema into separate docu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eclare XML attributes (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ml:lang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ml:bas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xml:space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 in sche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ptionall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eate specialised version of schema by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efining simple ty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efining attribute grou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efining model gro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65B2-6205-47EA-811D-7686358907F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51403-80EF-4968-B232-9F823C2407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Overview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ding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orting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defining Schem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070-6A8E-476F-A097-E0C19F1D3B1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A3F64-B45F-4F3E-9D88-F2C1ADF161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ncluding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nother schema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inclu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p level of schema, before definitions/decl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chemaLoc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specifies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d schema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ve the same target namespac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ve no target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"Chameleon" schema, adopts target namespace of including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5334120"/>
            <a:ext cx="8458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include schemaLocation="types.xs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87D5-3672-4809-9C35-D145D63296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42BE9-D621-4225-AB51-FC42F7D51A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Importing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st import if you reference a definition/declaration in another namespace (aside from XML Sche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ort schemas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im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p level of schema, before any definitions/decla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amespac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specifies name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chemaLoc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ttribute specifies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ptional – validator will use built-in definitions or the namespace U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5562720"/>
            <a:ext cx="861048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import namespace="http://www.w3.org/1999/xhtml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6ED3-75E0-4BAA-A722-1572C754F1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3F39B-1F2F-42F7-A36E-61CFBE4966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Redefining Schemas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efine with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redef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ust lik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s:includ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same 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content of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redefin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redefine definitions in referenced sch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imple types can be redefined as restrictions of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types can be redefined as restrictions or extensions of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roups and attribute groups must either contain a single reference to themselves or can be redefined as restrictions of themsel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D63-6CD4-40BF-BAD7-26D1D3FB9F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8A8D5-BFC1-4232-8B19-980D455F20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Simple Type Restri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219320"/>
            <a:ext cx="861048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ticketClas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xs:toke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economy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busines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firs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962520"/>
            <a:ext cx="861048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define schemaLocation="types.xs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simpleType name="ticketClas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striction base="fl:ticketClas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enumeration value="economy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striction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simpleTyp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defin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96" name=""/>
          <p:cNvCxnSpPr>
            <a:stCxn id="94" idx="2"/>
            <a:endCxn id="95" idx="0"/>
          </p:cNvCxnSpPr>
          <p:nvPr/>
        </p:nvCxnSpPr>
        <p:spPr>
          <a:xfrm>
            <a:off x="4533480" y="3505320"/>
            <a:ext cx="1080" cy="4579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891-59D5-403A-A9CC-FF115E54143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6F570-5908-49FB-A222-4214152E88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Group Extens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523880"/>
            <a:ext cx="861048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comm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id" type="xs:I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title" type="xs:string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581280"/>
            <a:ext cx="8610480" cy="2286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define schemaLocation="html.xs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common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ref="html:comm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lass" type="html:classe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style" type="html:css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defin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0" name=""/>
          <p:cNvCxnSpPr>
            <a:stCxn id="98" idx="2"/>
            <a:endCxn id="99" idx="0"/>
          </p:cNvCxnSpPr>
          <p:nvPr/>
        </p:nvCxnSpPr>
        <p:spPr>
          <a:xfrm>
            <a:off x="4533480" y="2895120"/>
            <a:ext cx="1080" cy="68652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285-B780-4425-9573-58AA32F7AE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9005D-3E82-425E-B57F-AFDBFE624F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Group Restri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 attributes get 'inherited' from the original defin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y appropriate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xs:anyAttribute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wildc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ldcard doesn't get inherited ei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lid ch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mitting an optional attrib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king an optional attribut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king the type of an attribute more restric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ing a default or fixed val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king a default value fix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BF-3684-4E6E-9660-D4C71C16ED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0296B-4EB9-46A5-B4EF-37BD3A7DD7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9ff99"/>
                </a:solidFill>
                <a:latin typeface="Trebuchet MS"/>
              </a:rPr>
              <a:t>Attribute Group Restriction</a:t>
            </a:r>
            <a:endParaRPr b="1" lang="en-US" sz="4000" spc="-1" strike="noStrike">
              <a:solidFill>
                <a:srgbClr val="99ff99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295280"/>
            <a:ext cx="8610480" cy="1676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legAt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duration" type="xs:duratio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code" type="xs:toke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airline" type="xs:token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581280"/>
            <a:ext cx="8610480" cy="2514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redefine schemaLocation="flight.xsd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Group name="legAtts"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duration" type="xs:duration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se="required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xs:attribute name="airline" type="fl:airline"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fault="EasyJet" /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attributeGroup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/xs:redefine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06" name=""/>
          <p:cNvCxnSpPr>
            <a:stCxn id="104" idx="2"/>
            <a:endCxn id="105" idx="0"/>
          </p:cNvCxnSpPr>
          <p:nvPr/>
        </p:nvCxnSpPr>
        <p:spPr>
          <a:xfrm>
            <a:off x="4533480" y="2971440"/>
            <a:ext cx="1080" cy="61020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XML Schema: Multiple Schem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1802-9FD6-40DB-B347-D85B9402E57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EDCC4-E060-4A18-8A48-ED900419BA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0:47:40Z</dcterms:created>
  <dc:creator>Jeni Tennison</dc:creator>
  <dc:description/>
  <dc:language>en-US</dc:language>
  <cp:lastModifiedBy>Jeni Tennison</cp:lastModifiedBy>
  <dcterms:modified xsi:type="dcterms:W3CDTF">2002-07-30T06:58:14Z</dcterms:modified>
  <cp:revision>27</cp:revision>
  <dc:subject/>
  <dc:title>XML Schema</dc:title>
</cp:coreProperties>
</file>