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003A-B61E-4ABD-9F47-D2C7C287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384912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B124-6736-4786-B841-37F4AB0F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77E-FB48-4BB2-B477-116264D07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100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008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100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008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50F3-91FD-4A3E-A5BF-00DE62E80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763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4030-93C1-4F41-825C-D8C6FC43F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2280" y="384912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100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008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228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100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008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E2F7-7B60-4D26-B2BF-519278CA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1908-508E-4C3F-8D2A-EB4DE571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9C00-78AB-483E-B6E8-60E4CFCF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763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530B-3ED4-4242-9468-A0FDA7E3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C652-F514-4314-BDA1-2E775B53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EF2E-6382-4C31-9FCD-0E0899E7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FF68-0662-4A89-848C-3708790A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522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E29C-3B0F-4668-94B6-89179801927B}" type="datetime5"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209680" y="6400440"/>
            <a:ext cx="4724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FB92-6916-4C7B-9AB9-5F0C6711CDB6}" type="slidenum"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143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99"/>
                </a:solidFill>
                <a:latin typeface="Trebuchet MS"/>
              </a:rPr>
              <a:t>Click to edit the title text format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43" name=""/>
          <p:cNvSpPr/>
          <p:nvPr/>
        </p:nvSpPr>
        <p:spPr>
          <a:xfrm>
            <a:off x="3489480" y="574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143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ff99"/>
                </a:solidFill>
                <a:latin typeface="Trebuchet MS"/>
              </a:rPr>
              <a:t>XML Schema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chematr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Summary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chematron is very useful for "plugging the gaps" in XML Sch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 to express constraints over and above those allowed in Schematr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chematron schemas contain patte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atterns are named and contain ru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ules have a context and contain assertions and rep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ssertions and reports have tests and contain descriptions or error mess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chematron patterns can be embedded in XML Schema schem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Schematr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EDC8-5599-4457-9A47-665083901EE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091F3-34B8-49CE-9A3D-0AD606A0FCA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Exercis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d Schematron rules to the schema to express additional constra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Schematr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AFD9-83E2-4624-9DE0-9810248F0C4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A26AF-A9A4-41F7-84FA-0C1FFA78C36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Overview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-occurrence constraints in XML Sche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chematr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ocessing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riting ru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mbedding Schematron in XML Sche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Schematr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D406-8175-4963-BD02-F990A91F915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24BB3-9AB2-4834-A25A-3E45436352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Co-occurrence Constraint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XML Schema can't articulate certain kinds of constrain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hen an element's type depends on an attribute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hen an element's content depends on the presence of an attrib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hen the text in mixed content has to be a certain 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hen a value has to match an ID in a separate docu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hen an element can contain repeatable elements in any or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chematron can be used to plug the ga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Schematr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2B1E-DE7C-43EE-8D1C-B5F4EFD7E7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C388A-ACD3-4902-B7F6-2B6A77417F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Schematron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ule-based schema langu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sserts conditions that elements/attributes must or must not fulfi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Built on top of XSL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chematron schemas are transformed into XSLT styleshe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structed stylesheet produces validity re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yle of validity report depends on how the stylesheet was cre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Schematr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E2F2-9D58-4C58-9137-FE33BD26E1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7A84E-FCB2-4AF3-8C54-B222C986DA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Schematron Schema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chematron namespace is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http://www.ascc.net/xml/schematr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ually associated with prefix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chematron schema made up of patter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amed collections of similar ru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.g. pattern for "structure", pattern for "data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atterns operate in parall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define phases to combine different patter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atterns contain a number of ru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Schematr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FB36-24EE-4138-8C25-22ADA2DC2D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20118-1667-4E4D-B5B4-F859FCB0108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Schematron Rul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fined with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ch:ru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ach rule matches a particular set of n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dentified through XSLT pattern i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ntex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attrib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side each rule are a number of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ch:assert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ch:report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el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sertions are positive (things that must be tr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ports are negative (things that should be reported if they occu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st is XPath expression held i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attrib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tent gives description to be passed to valida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Schematr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3487-7DF3-4DC3-A7FB-29583EA41A4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C7088-D832-4687-B5EB-AE8315F325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Schematron Pattern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295280"/>
            <a:ext cx="8686800" cy="4953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sch:pattern name="flightTimes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sch:rule context="fl:flight | fl:leg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sch:report test="translate(fl:depart, '-T:Z', '') 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anslate(fl:arrive, '-T:Z', '')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is &lt;sch:name /&gt; arrives before it depar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sch:repor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sch:rul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sch:rule context="fl:leg[preceding-sibling::fl:leg]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sch:assert test="translate(fl:depart, '-T:Z', '') 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anslate(preceding-sibling::fl:leg/fl:depart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'-T:Z', '')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 &lt;sch:name /&gt; must depart after the previous le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rriv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sch:asser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sch:rul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sch:pattern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Schematr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97AB-FA78-4BBA-A634-F76489219B1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324FB-C776-4046-A61A-142BF0AA2D7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Embedding Schematron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chematron patterns (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sch:pattern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) can be embedded in any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xs:appinfo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ithin an XML Schema sche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opologi's Schematron validat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xtracts Schematron sch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configure extraction rout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idates against XML Schema sch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idates against Schematron sch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configure which meta-stylesheet is used, and therefore what kind of report you g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Schematr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0F16-58EE-4EED-A5FF-91CEA22486E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FDB54-7C92-4606-8874-CE835B0090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Embedding Schematron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295280"/>
            <a:ext cx="8686800" cy="4953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omplexType name="flight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documentation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ppinfo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sch:pattern name="flightTimes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sch:rule context="fl:flight | fl:leg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sch:rul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sch:rul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ntext="fl:leg[preceding-sibling::fl:leg]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sch:rul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sch:pattern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appinfo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documentation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Schematr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F9D2-438C-4C20-B95E-8C9E6C25152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D4E47-2DBE-4D05-ACC5-8146D81C8FD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3T10:47:40Z</dcterms:created>
  <dc:creator>Jeni Tennison</dc:creator>
  <dc:description/>
  <dc:language>en-US</dc:language>
  <cp:lastModifiedBy>Jeni Tennison</cp:lastModifiedBy>
  <dcterms:modified xsi:type="dcterms:W3CDTF">2002-07-30T06:58:12Z</dcterms:modified>
  <cp:revision>44</cp:revision>
  <dc:subject/>
  <dc:title>XML Schema</dc:title>
</cp:coreProperties>
</file>