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2BA-97DF-48B3-8F23-0E439A87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DADE-AEC0-42DF-AECD-508AF116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0A41-E9F7-4325-BD35-F963B691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B54-6969-485F-AF4F-A095159D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743-1FED-4C27-8143-5DE12293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79F-6C40-4F52-8A51-0D89566B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20F-A56A-478E-9E57-C22F4C36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3FE2-07E4-47A2-94AA-820D6D06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539-2AAB-47FB-B510-37C0178D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2833-0613-48F8-A5A5-D82BBA60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57D7-E6ED-45C2-BF80-97C54D5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2A8-DFDF-472D-926A-0F3A96BF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D685-ADEE-4520-A60C-C84BE2F89360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494F-CAD1-4301-ABB4-AA20F6C0D1A2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5063760" y="487692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y Jeni Tenni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bjectiv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nderstand how schemas work and how they fit toge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earn XML Schema synta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ate the structure of XML docume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the values of element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come familiar with XML Schema data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eate schemas from multiple docu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vide opportunity for you to try things ou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79D2-EBCA-410C-98A8-E0F92991FC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301D1-4A4C-4D05-B783-97D0F44B44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genda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Validating XML 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imple data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ple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tional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ing type hierarch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hancing XML schemas with Schema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tterns in XML Schema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D7FE-AB9C-45AE-BED3-00208F39A7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8AC8B-79F0-491B-998C-F9A459B4CE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3Z</dcterms:modified>
  <cp:revision>7</cp:revision>
  <dc:subject/>
  <dc:title>XML Schema</dc:title>
</cp:coreProperties>
</file>