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2075-F180-4A5A-933D-4A98E0F7A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4CE5-069B-413B-BA0B-F00D0001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7BCF-AAC5-43DA-B683-B39D8CD8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100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00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100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00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4C86-6825-4AC0-8768-63CAF886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763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BC07-3CFE-49D5-A3E1-1E38D6B1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100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00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22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100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00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D4C-8883-44EF-A382-BA7E54BC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D418-290F-4EFF-8C68-D06B7622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040D-8790-48B2-BF8D-1418641B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763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33A-9FCA-4CCF-A269-704F3F51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671D-BCDD-42CA-8424-341FE4A9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B8E2-14F2-40CF-8B0B-4FA25F64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78A6-4B8B-4565-9426-6C8EC96F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522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7654-771C-452F-A912-31234EAFFC58}" type="datetime5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209680" y="6400440"/>
            <a:ext cx="4724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C34F-66AD-4AF3-A8A6-B6099CF94CBA}" type="slidenum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99"/>
                </a:solidFill>
                <a:latin typeface="Trebuchet MS"/>
              </a:rPr>
              <a:t>Click to edit the title text format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43" name=""/>
          <p:cNvSpPr/>
          <p:nvPr/>
        </p:nvSpPr>
        <p:spPr>
          <a:xfrm>
            <a:off x="3489480" y="574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ff99"/>
                </a:solidFill>
                <a:latin typeface="Trebuchet MS"/>
              </a:rPr>
              <a:t>XML Schema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Global/Local, Named/Anonymou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clarations can be global or lo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ocument elements must be declared glob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embers and head elements of substitution groups must be declared glob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ust use local declarations for elements whose type changes by 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ust use local declarations for attributes in no namespace (unqualifie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ype definitions can be named or anonymo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usable (and derivable) type definitions must be nam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E12-9CBC-40BB-91D4-41291CF2C9A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D86E5-F3D2-4AE7-8FB1-F98B65A76E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Funny nam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280" y="1828800"/>
          <a:ext cx="8839440" cy="3581280"/>
        </p:xfrm>
        <a:graphic>
          <a:graphicData uri="http://schemas.openxmlformats.org/drawingml/2006/table">
            <a:tbl>
              <a:tblPr/>
              <a:tblGrid>
                <a:gridCol w="2362320"/>
                <a:gridCol w="1523880"/>
                <a:gridCol w="2590920"/>
                <a:gridCol w="2362320"/>
              </a:tblGrid>
              <a:tr h="60948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lar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07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stly glob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stly lo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 Defini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stly nam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etian Bli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stly ano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lami Sl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ussian Do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esign Patter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ED89-03E9-441B-9873-FD17688E3E9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A1ED7-E04C-4014-822E-6475D8CEB0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Salami Slice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371600"/>
            <a:ext cx="8686800" cy="426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flight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fl:depart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fl:arriv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flightCode" type="fl:cod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elemen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depart" type="xs:tim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arrive" type="xs:tim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esign Patter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F804-D5BB-4ADE-B5A5-4AA49A6E00C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52668-B694-4AF8-B471-12152C8F31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Salami Slice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yle of DT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 element declarations are glob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 attribute declarations are lo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onymous complex types nested ins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to break pattern wh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ed an element to have different content in different circumstan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ant elements to be unqualified (in no namespa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n't reuse or redefine complex ty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 named model groups inste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ultiple possible document el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EE7-785F-4B72-97BF-C3F1E5B48F2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0FE13-13BE-4F62-9223-FDBA20F489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Russian Doll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2057400"/>
            <a:ext cx="8686800" cy="3048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flight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depart" type="xs:tim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arrive" type="xs:tim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flightCode" type="fl:cod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elemen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esign Patter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E608-923A-4144-ABDC-C503A00C7E3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78F17E-FEA6-4656-9AB4-E0C98D8B44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Russian Doll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eply nested 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nly declaration for document element is glob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onymous complex types nested ins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to break pattern wh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ant to reuse the same element or the same content in different contex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ant to define a substitution gro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eads to lots of indentation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member to set the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ementFormDefault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ttribute on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schema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qual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therwise all the elements are in no name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1238-27F8-461D-AA85-5EB2B5680F2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B3461-0C95-47C8-AE02-381A7DCB3E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Venetian Blind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057400"/>
            <a:ext cx="8686800" cy="3048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flight" type="fl:flight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Type name="flight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depart" type="xs:tim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arrive" type="xs:tim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flightCode" type="fl:cod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esign Patter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7253-4CBE-402A-9DC3-2B58FFC4D2B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0FEBA-99D9-46B9-95C2-76B9D7AF46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Venetian Blind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chemas predominantly type defini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nly declaration for document element is glob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st of schema made up of named complex and simple type defin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lexible enough to cover most circumsta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reuse just the type of elements rather than the entire th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nly exception is substitution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member to set the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ementFormDefault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ttribute on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schema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qual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therwise all the elements are in no name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79F5-730E-4662-A3CC-5C92A1768CA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949DB-C873-4457-957B-9AAC40D016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ff99"/>
                </a:solidFill>
                <a:latin typeface="Trebuchet MS"/>
              </a:rPr>
              <a:t>XML Schema Patterns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apter Schem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Adapter Schema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ttern used to adapt schema for local 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 want to include XHTML paragraph in which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l:airlin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element is part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html:inlin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substitution gro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.g. want to include Xlink attributes, with own values for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ol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ttrib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efine existing type or group defini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only do this in schema with same target namespace as type/gro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reate adapter schema to do redefini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ort into own sch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4989-CE99-4FC7-8A64-EB3FA15DF27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C4AE2-1204-4E1A-9323-D33BB4972F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Overview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position vs. inherit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chema constru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ussian do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lami sl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enetian bli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apter schem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ntainer/item definition hierarch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703F-CB6C-4423-B9E1-3A1E434A03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F1EBD-10CD-4786-A402-8635E672D4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Adapter Schema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4952880"/>
            <a:ext cx="198144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usable sch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3352680"/>
            <a:ext cx="198144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apter sch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1676520"/>
            <a:ext cx="198144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in sch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3" name=""/>
          <p:cNvCxnSpPr>
            <a:stCxn id="120" idx="0"/>
            <a:endCxn id="121" idx="2"/>
          </p:cNvCxnSpPr>
          <p:nvPr/>
        </p:nvCxnSpPr>
        <p:spPr>
          <a:xfrm flipV="1">
            <a:off x="2285640" y="4266360"/>
            <a:ext cx="1080" cy="686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1" idx="0"/>
            <a:endCxn id="122" idx="2"/>
          </p:cNvCxnSpPr>
          <p:nvPr/>
        </p:nvCxnSpPr>
        <p:spPr>
          <a:xfrm flipV="1">
            <a:off x="2285640" y="2590560"/>
            <a:ext cx="1080" cy="76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2311200" y="44197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ef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381760" y="274320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5257800" y="4952880"/>
            <a:ext cx="22096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XHTML sch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3352680"/>
            <a:ext cx="22096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XHTML-flight sch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1676520"/>
            <a:ext cx="220968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ight sch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0" name=""/>
          <p:cNvCxnSpPr>
            <a:stCxn id="127" idx="0"/>
            <a:endCxn id="128" idx="2"/>
          </p:cNvCxnSpPr>
          <p:nvPr/>
        </p:nvCxnSpPr>
        <p:spPr>
          <a:xfrm flipV="1">
            <a:off x="6362280" y="4266360"/>
            <a:ext cx="1080" cy="686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0"/>
            <a:endCxn id="129" idx="2"/>
          </p:cNvCxnSpPr>
          <p:nvPr/>
        </p:nvCxnSpPr>
        <p:spPr>
          <a:xfrm flipV="1">
            <a:off x="6362280" y="2590560"/>
            <a:ext cx="1080" cy="762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502320" y="44197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ef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572520" y="274320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esign Patter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FCE0-6661-4EAB-B777-E5CF935D346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E2B78-BC11-4DE0-88D7-E140E6ECB0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ff99"/>
                </a:solidFill>
                <a:latin typeface="Trebuchet MS"/>
              </a:rPr>
              <a:t>XML Schema Patterns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rapper/Item Hierarch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Wrapper/Item Hierarchi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ttern where you hav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general wrapper (e.g.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ntaine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general item in that wrapper (e.g.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tem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re specific wrappers (e.g.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bookcas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eds to be derived by restriction from general wrapp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re specific items for that wrapper (e.g.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book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eds to be derived by restriction from general i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substitution groups to build up parallel hierarch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DD5E-5F7D-486F-BA0E-D83CC3B30C7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382850-D9E2-4F43-89E5-D23A5B7E98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Wrapper/Item Hierarchi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600200"/>
            <a:ext cx="1752480" cy="1219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eneral wrapper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343400"/>
            <a:ext cx="1752480" cy="1219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pecific wrapper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1600200"/>
            <a:ext cx="1752480" cy="1219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eneral item el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4343400"/>
            <a:ext cx="1752480" cy="1219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pecific item el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0" y="1600200"/>
            <a:ext cx="1752480" cy="1219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eneral item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4343400"/>
            <a:ext cx="1752480" cy="1219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pecific item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45" name=""/>
          <p:cNvCxnSpPr>
            <a:stCxn id="140" idx="0"/>
            <a:endCxn id="139" idx="2"/>
          </p:cNvCxnSpPr>
          <p:nvPr/>
        </p:nvCxnSpPr>
        <p:spPr>
          <a:xfrm flipV="1">
            <a:off x="1409400" y="281880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39" idx="3"/>
            <a:endCxn id="141" idx="1"/>
          </p:cNvCxnSpPr>
          <p:nvPr/>
        </p:nvCxnSpPr>
        <p:spPr>
          <a:xfrm>
            <a:off x="2286000" y="22093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41" idx="3"/>
            <a:endCxn id="143" idx="1"/>
          </p:cNvCxnSpPr>
          <p:nvPr/>
        </p:nvCxnSpPr>
        <p:spPr>
          <a:xfrm>
            <a:off x="5486400" y="2209320"/>
            <a:ext cx="1372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stCxn id="143" idx="2"/>
            <a:endCxn id="144" idx="0"/>
          </p:cNvCxnSpPr>
          <p:nvPr/>
        </p:nvCxnSpPr>
        <p:spPr>
          <a:xfrm>
            <a:off x="7733880" y="281916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4" idx="1"/>
            <a:endCxn id="142" idx="3"/>
          </p:cNvCxnSpPr>
          <p:nvPr/>
        </p:nvCxnSpPr>
        <p:spPr>
          <a:xfrm flipH="1">
            <a:off x="5486040" y="4952520"/>
            <a:ext cx="1372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2" idx="0"/>
            <a:endCxn id="141" idx="2"/>
          </p:cNvCxnSpPr>
          <p:nvPr/>
        </p:nvCxnSpPr>
        <p:spPr>
          <a:xfrm flipV="1">
            <a:off x="4609800" y="2818800"/>
            <a:ext cx="108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" name=""/>
          <p:cNvCxnSpPr>
            <a:stCxn id="142" idx="1"/>
            <a:endCxn id="140" idx="3"/>
          </p:cNvCxnSpPr>
          <p:nvPr/>
        </p:nvCxnSpPr>
        <p:spPr>
          <a:xfrm flipH="1">
            <a:off x="2285640" y="495252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2" name=""/>
          <p:cNvSpPr/>
          <p:nvPr/>
        </p:nvSpPr>
        <p:spPr>
          <a:xfrm>
            <a:off x="533520" y="3200400"/>
            <a:ext cx="1904760" cy="73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rive by restri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200400"/>
            <a:ext cx="1905120" cy="73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rive by restri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3200400"/>
            <a:ext cx="1905120" cy="73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ember of sub. gro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esign Patter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2D8D-C1E9-4CA7-8E7B-CC297F7AAA5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B303E-7E5B-42E0-A848-16E25C4B70F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Summary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n use composition or inheritance to create reusable and redefinable cont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ree patterns for overall document 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alami slice – DTD-li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ussian doll – deeply nes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enetian blind – mainly complex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dapter schemas to adapt common schemas to your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ssibility depends on design of common sch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reate mirrored hierarchies for elements and types using substitutio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3644-E837-4A12-9219-0508A9C6AC5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0FD2D-3519-4EE0-92E0-0E70554FAF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Exercis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design schema using different mod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ussian do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lami sl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enetian bli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se complex types and reusable model and attribute grou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iscuss different styles to discover heur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B81-D6CB-44DC-BA5E-9420CE7BA95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707A4-B6D1-489C-B719-C4D8CA0869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95280"/>
            <a:ext cx="8153280" cy="18288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ff99"/>
                </a:solidFill>
                <a:latin typeface="Trebuchet MS"/>
              </a:rPr>
              <a:t>XML Schema Patterns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52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position vs. Inherit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Achieving Reuse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use content models and attribute decl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wo method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pos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fine groups and attribute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use by re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ype hierarch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fine complex and simple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use by inherit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D910-4756-4DCE-BBD8-1A931368BA5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49AA3-06CA-468D-A081-82B6760BCCE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Composition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371600"/>
            <a:ext cx="8686800" cy="472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group name="flight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fl:depart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fl:arriv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group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Group name="flight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flightCode" type="fl:cod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attributeGroup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flight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group ref="fl:flight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Group ref="fl:flight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elemen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esign Patter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2841-B953-46E0-9AD4-BF636332F81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C700CE-0C69-4E88-8E7F-EA0239F986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Composition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ilar to DTD methods of re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rameter entities often mirror groups and attribute grou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 limit on how groups are compo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n mix and match different groups in different or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e groups and attribute groups to act as placeholders for extensible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ther users can redefine groups in their own sche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sadvan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ouping information is lost in PS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way to tell if an element's content is from a particular gro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8FF3-720E-442C-AB72-F6C0B37C60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DAA6C-0ECC-4BA1-B747-0FC5B73DAD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Inheritance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057400"/>
            <a:ext cx="8686800" cy="3048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Type name="flight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fl:depart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fl:arriv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flightCode" type="fl:cod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flight" type="fl:flight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esign Patter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684C-A621-4974-941F-C2DD318ABE6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7B3A7A-B6BD-4C77-B6E4-DE4F00F93B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Composition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ype hierarchy reflects data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n be auto-generated from U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n be translated easily into objects in OO pro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ype hierarchy available in PS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sable in PSVI-aware APIs (e.g. XPath 2.0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ypes can only be extended/restricted in particular w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 the rules are quite complic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tent and attributes are bound toge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way to mix and match in different el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Design Patter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1A26-2CAE-4B02-B462-57C14C48DC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AC185-0D72-4052-85FB-C7DEB4F34C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ff99"/>
                </a:solidFill>
                <a:latin typeface="Trebuchet MS"/>
              </a:rPr>
              <a:t>XML Schema Patterns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chema Constru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3T10:47:40Z</dcterms:created>
  <dc:creator>Jeni Tennison</dc:creator>
  <dc:description/>
  <dc:language>en-US</dc:language>
  <cp:lastModifiedBy>Jeni Tennison</cp:lastModifiedBy>
  <dcterms:modified xsi:type="dcterms:W3CDTF">2002-07-30T06:58:12Z</dcterms:modified>
  <cp:revision>35</cp:revision>
  <dc:subject/>
  <dc:title>XML Schema</dc:title>
</cp:coreProperties>
</file>