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161-442E-485D-B974-1EE6CB10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54A-C050-4D71-8F2A-21AA218E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3FCB-0A25-45DD-834B-0553B20A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0D3-DE8F-4513-86A3-76B22FB2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A8E-2E64-4F62-BE7F-929E2479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E2A-387E-4172-97F3-4692C2E6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FD1-27DE-4CA3-968F-F2687343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5AC8-E436-46AD-86A4-B2266231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2319-A694-480F-BA43-5DBD0EF8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A49-34BD-4DEA-9165-42741EC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7D23-377B-4EE7-B8F7-14055A6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587-F1B6-4B49-B571-0B05485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35B4-4EFA-46D0-8EE2-7259F232FB10}" type="datetime5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09680" y="6400440"/>
            <a:ext cx="4724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75697-F3CA-401A-80D0-C27C8410991D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3489480" y="57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plex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Restricting Complex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ent model restrictions just like restricting redefined named grou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ult must be valid against b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tribute restrictions like restricting redefined attribute grou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cept that attributes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nherited from base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omit an attribute, set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to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 prohibi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tribute wildcards combined by inters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AED-AA37-43E7-AC90-2342774AD9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20A58-456A-42C5-8D63-D4D0439780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Restricting Complex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295280"/>
            <a:ext cx="8382240" cy="4724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direct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striction base="fl: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directFligh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code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="fl:flightCod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code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se="prohibit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FE5-C8B8-43A9-B108-1281014617A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A0313-DD5B-43BA-B90D-F9160DB853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18288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Complex Typ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ubstitu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Using xsi:typ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ements in instance don't have to be the same type as they are declared to 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i:typ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 on instance element to specify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 in instance must be derived from type in dec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ports co-occurrence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ments of different types have different combinations of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i:typ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her tha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ol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A66D-47DB-4791-A085-2220598D62D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57124-C178-4970-A467-A5EA4F1048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-Occurrence with xsi:typ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fine common base 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rive specific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e for each combination of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x attribute/element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clare element with the common base 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i:typ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to pick specific type for particular insta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E07-6E41-4E9D-A980-C1846383DD3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2D113-76EA-49A2-BA2B-504EE4AC44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-Occurrence with xsi:typ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1219320"/>
            <a:ext cx="8839440" cy="5181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complexType name="anchorOrLink" mixed="true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group ref="html:inline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complexType name="anchor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complexContent mixed="true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extension base="html:anchorOrLink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attribute name="name" type="xs:ID" use="required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extens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complexContent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complexType name="link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complexContent mixed="true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extension base="html:anchorOrLink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attribute name="href" type="xs:anyURI"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se="required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extens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complexContent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1A8-2D70-480F-B502-EB649559BD2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35EAF-B184-48C8-B22D-6224F99294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-Occurrence with xsi:typ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1828800"/>
            <a:ext cx="83818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" type="html:anchorOrLink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895480"/>
            <a:ext cx="83818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 xsi:type="anchor" name="abc"&gt;...&lt;/a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733920"/>
            <a:ext cx="83818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 xsi:type="link" href="abc"&gt;...&lt;/a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A41-2E7B-4F84-BC0D-A29E632DAA0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DC0D2-28C4-42CF-9183-8EB70D0B3A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lement Substitu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creat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ubstitution group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f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tensible choice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e element is th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head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ember elements point to head element throug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ubstitutionGrou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head elements for other substitutio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rever head element appears in content model, member elements can appear inst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elements must be declared glob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C31-032D-4021-A8BB-2B4657A6506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3D0D2-EF68-484C-B445-D99D4CE025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lement Substitu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371600"/>
            <a:ext cx="8305920" cy="3276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span" type="html:inlin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inline" mixed="tru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 minOccurs="0" maxOccurs="unbounded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html:spa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em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stitutionGroup="html:spa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strong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bstitutionGroup="html:spa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5181480"/>
            <a:ext cx="830556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span&gt;Some &lt;em&gt;emphasised&lt;/em&gt; text...&lt;/spa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21F-50F3-471A-8B57-A52C9D675F0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91AA3-EAD4-4B96-B4E8-54A94BE391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18288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Complex Typ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rolling Derivation and Sub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Overview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plex type hierarch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r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exten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y restr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ubstitution grou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dicating types in instance docu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rolling deri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venting der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venting sub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cing derivation or sub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47C-2DD9-4548-A712-B5D98645BE9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0B3FB-CF3E-4FB9-A11B-25E1E213C5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Prevent Type Deriva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event derivations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stop simple type derivation by restriction, use in lists or un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complexTyp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stop complex type derivation by restriction and/or ex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ele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stop elements being used as head elements in substitutio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Defaul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o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chema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provides defau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al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r list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tens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stri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is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158-BC2F-4426-9361-BF0DD823B34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DE52D-A364-439D-A424-64254950A6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Prevent Substitu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locking substitutions affects in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't us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i: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't substitute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o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complexTy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blockDefaul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o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#al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r list of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xtens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strict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5257800"/>
            <a:ext cx="8153280" cy="762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ddress" type="addres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lock="extension substitutio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0EFE-01FA-4A80-8F06-F04C22E09B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08433-B93F-4C68-84CC-9B7D1D155E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Forcing Substitu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bstract elements must be substitu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bstract complex types mea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ments must us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i:typ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ments must be substitu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t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 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lexTy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lemen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 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3962520"/>
            <a:ext cx="815328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inline" type="html:inlin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stract="tru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4876920"/>
            <a:ext cx="8153280" cy="1295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" type="html:anchorOrLink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anchorOrLink" abstract="tru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A6A-BE52-4929-BDBE-29328B517E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4DEFC-BD00-4911-BDCA-161AD880D4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ummar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lex types can have simple or complex 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lex types derived from other types by extension or by restri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tension adds elements in sequ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triction guarantees validity against base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i:ty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nd substitution groups in in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rol derivations and substitutions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466A-D8DD-4651-AF11-4A1D1091E17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1CFA6-032E-4E8B-910A-2018FCE3B4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xercis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reate complex data types for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ild type hierarchies for complex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i:typ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to deal with co-occurrence constra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ptional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y out substitutio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periment with the effect of blocking restrictions, extensions and sub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357-B38C-4B3C-93FA-866D47B5E95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99740-D874-4462-A93E-6FF286CB8C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18288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Complex Typ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plex Type Hierarch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mplex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wo classes of complex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ple 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xt content, with attributes now or in future (otherwise would be simple typ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simpleCont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sid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complex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lex 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ment or mixed content, possibly with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complexCont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sid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complex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hav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xe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ttribute, true for mixed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4A9-9A14-4BCC-B581-932E37B978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6F443-7A0B-4734-82C4-470A06215E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mplex Data Type Hierarchi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lex data types form hierarc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types of steps in hierarch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tension 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extens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 adds content/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 elements/attributes to bas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 might not validate against bas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asy to specif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es get inheri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triction 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restri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 removes content/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fy new, related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ult will always validate against bas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Verbo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ve to repeat content from base typ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B50-32EB-4427-8B8D-1965C1463C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F6484-23CC-4317-B6E8-C836E650F4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Basic Complex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asic complex types actually derived by restriction from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anyTy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362320"/>
            <a:ext cx="8153640" cy="11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aTyp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962520"/>
            <a:ext cx="815364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aTyp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striction base="xs:anyTyp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5" name=""/>
          <p:cNvCxnSpPr>
            <a:stCxn id="93" idx="2"/>
            <a:endCxn id="94" idx="0"/>
          </p:cNvCxnSpPr>
          <p:nvPr/>
        </p:nvCxnSpPr>
        <p:spPr>
          <a:xfrm>
            <a:off x="4686120" y="3505320"/>
            <a:ext cx="1080" cy="4579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arrow" w="med"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526-9ABE-4F79-9C14-B0A91BE807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472A0-451D-41AA-A75D-6B8CF3C03E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imple Conten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plex types with simple content are extensions of simple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se type indicated throug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bas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or nested anonymous simple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3276720"/>
            <a:ext cx="8153280" cy="25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pric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xtension base="xs:decimal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currency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="xs:toke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xtens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E5FC-E463-4788-B4E9-979FEB8C2A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B28E2-ADD8-4B9E-948D-D0C71B5500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xtending Complex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rivation by extension creates an implicit sequence containing base content model followed by extension content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't extend a choice with another choice to add possib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stead get sequence of two cho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 named groups inst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't extend an all group or extend with an all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ributes get added to those in the base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ribute wildcards are unioned toge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CF7-0B58-4ABA-B16E-D8DCE963F6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90B34-64F9-406A-B4F7-4CF3FC2808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xtending Complex Typ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295280"/>
            <a:ext cx="8382240" cy="3505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foreignAddres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xtension base="addres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country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intCode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ype="xs:integer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xtens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5920"/>
                <a:tab algn="l" pos="771480"/>
                <a:tab algn="l" pos="1157400"/>
                <a:tab algn="l" pos="1542960"/>
                <a:tab algn="l" pos="1928880"/>
                <a:tab algn="l" pos="2314440"/>
                <a:tab algn="l" pos="2700360"/>
                <a:tab algn="l" pos="3086280"/>
                <a:tab algn="l" pos="3471840"/>
                <a:tab algn="l" pos="3857760"/>
                <a:tab algn="l" pos="4243320"/>
                <a:tab algn="l" pos="4629240"/>
                <a:tab algn="l" pos="5014800"/>
                <a:tab algn="l" pos="5400720"/>
                <a:tab algn="l" pos="5786280"/>
                <a:tab algn="l" pos="6172200"/>
                <a:tab algn="l" pos="6558120"/>
                <a:tab algn="l" pos="6943680"/>
                <a:tab algn="l" pos="7329600"/>
                <a:tab algn="l" pos="77151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Complex Typ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F8B-0031-43E9-892A-8B133782D2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0747D-73DE-4BF9-8F62-89D9F38E0E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0:47:40Z</dcterms:created>
  <dc:creator>Jeni Tennison</dc:creator>
  <dc:description/>
  <dc:language>en-US</dc:language>
  <cp:lastModifiedBy>Jeni Tennison</cp:lastModifiedBy>
  <dcterms:modified xsi:type="dcterms:W3CDTF">2002-07-30T06:58:16Z</dcterms:modified>
  <cp:revision>29</cp:revision>
  <dc:subject/>
  <dc:title>XML Schema</dc:title>
</cp:coreProperties>
</file>