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9D3-91B7-4688-9FD5-3467B941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252-2AAB-4CED-9D83-783FCFB5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6517-BBBE-4BCD-8735-EE864BBA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019-CEAD-42AD-A95D-8474B98A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8240-AFEE-4417-9099-95437F3F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CD2-370A-46D5-A819-174509E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9D3-35B1-41C2-B408-2E699FFE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2A99-1153-426E-A68D-2B6C5348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4AB-2962-4BD4-93E5-21B5E850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EAF-4AA0-41C7-84DD-5C03CC3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3E9A-833F-40DE-97BE-F1351FA4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897-BD99-415A-BC9E-ED9E16CA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1A8-A6C2-4FDE-B83C-A506D4A787DE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CC37-4BE7-47AE-9D96-6E63032D0B81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Data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t-in Data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a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umb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N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oole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R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C99-55BF-497F-A758-353B50587E2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6FAAA-C200-4394-8291-490CF8186D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tring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tring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s basic XML Schema string data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47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want something more specific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normalizedStr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no significant line brea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toke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no significant whit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NMTOKE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XML NMTOK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Na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XML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languag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language spec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209680"/>
            <a:ext cx="7391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London 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819520"/>
            <a:ext cx="73911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name" type="xs:string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3F46-DBE5-4884-BA58-DF8623DE92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E423C-A9E1-4913-9A29-7748EBB80D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s:string Hierarch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52388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51460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ormalizedSt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350532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to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4572000"/>
            <a:ext cx="2667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457200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MTO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5943600" y="457200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5638680"/>
            <a:ext cx="2666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MTOK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5" name=""/>
          <p:cNvCxnSpPr>
            <a:stCxn id="119" idx="0"/>
            <a:endCxn id="118" idx="2"/>
          </p:cNvCxnSpPr>
          <p:nvPr/>
        </p:nvCxnSpPr>
        <p:spPr>
          <a:xfrm flipV="1">
            <a:off x="4381200" y="192960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4424040" y="205740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e breaks ign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7" name=""/>
          <p:cNvCxnSpPr>
            <a:stCxn id="120" idx="0"/>
            <a:endCxn id="119" idx="2"/>
          </p:cNvCxnSpPr>
          <p:nvPr/>
        </p:nvCxnSpPr>
        <p:spPr>
          <a:xfrm flipV="1">
            <a:off x="4381200" y="292032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4424040" y="3048120"/>
            <a:ext cx="21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tespace ignor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9" name=""/>
          <p:cNvCxnSpPr>
            <a:stCxn id="120" idx="1"/>
            <a:endCxn id="121" idx="0"/>
          </p:cNvCxnSpPr>
          <p:nvPr/>
        </p:nvCxnSpPr>
        <p:spPr>
          <a:xfrm flipV="1" rot="10800000">
            <a:off x="1485360" y="3707280"/>
            <a:ext cx="1562760" cy="8643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0" idx="2"/>
            <a:endCxn id="122" idx="0"/>
          </p:cNvCxnSpPr>
          <p:nvPr/>
        </p:nvCxnSpPr>
        <p:spPr>
          <a:xfrm>
            <a:off x="4381200" y="3911760"/>
            <a:ext cx="1080" cy="660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0" idx="3"/>
            <a:endCxn id="123" idx="0"/>
          </p:cNvCxnSpPr>
          <p:nvPr/>
        </p:nvCxnSpPr>
        <p:spPr>
          <a:xfrm>
            <a:off x="5714640" y="3708000"/>
            <a:ext cx="1562760" cy="8643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24" idx="0"/>
            <a:endCxn id="122" idx="2"/>
          </p:cNvCxnSpPr>
          <p:nvPr/>
        </p:nvCxnSpPr>
        <p:spPr>
          <a:xfrm flipV="1">
            <a:off x="4381200" y="4978440"/>
            <a:ext cx="1080" cy="6606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3" name=""/>
          <p:cNvSpPr/>
          <p:nvPr/>
        </p:nvSpPr>
        <p:spPr>
          <a:xfrm>
            <a:off x="533520" y="3657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language c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36576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not starting with dig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, no sp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5105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NMTOKE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EDB-5156-429A-BDFC-8F4AE1A87AF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B92AA-C904-4C91-8B78-5754540CB5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s:Name Hierarch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37160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28195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CN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3276720" y="41911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IDRE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41911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1911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55627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E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5562720"/>
            <a:ext cx="1828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IDREF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5" name=""/>
          <p:cNvCxnSpPr>
            <a:stCxn id="138" idx="2"/>
            <a:endCxn id="139" idx="0"/>
          </p:cNvCxnSpPr>
          <p:nvPr/>
        </p:nvCxnSpPr>
        <p:spPr>
          <a:xfrm>
            <a:off x="4190760" y="1777680"/>
            <a:ext cx="1080" cy="1042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9" idx="2"/>
            <a:endCxn id="140" idx="0"/>
          </p:cNvCxnSpPr>
          <p:nvPr/>
        </p:nvCxnSpPr>
        <p:spPr>
          <a:xfrm>
            <a:off x="4190760" y="3225600"/>
            <a:ext cx="1080" cy="96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39" idx="1"/>
            <a:endCxn id="141" idx="0"/>
          </p:cNvCxnSpPr>
          <p:nvPr/>
        </p:nvCxnSpPr>
        <p:spPr>
          <a:xfrm flipV="1" rot="10800000">
            <a:off x="1447200" y="3022200"/>
            <a:ext cx="182952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2" idx="0"/>
          </p:cNvCxnSpPr>
          <p:nvPr/>
        </p:nvCxnSpPr>
        <p:spPr>
          <a:xfrm>
            <a:off x="5105520" y="3022560"/>
            <a:ext cx="1753200" cy="11692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0" idx="2"/>
            <a:endCxn id="144" idx="0"/>
          </p:cNvCxnSpPr>
          <p:nvPr/>
        </p:nvCxnSpPr>
        <p:spPr>
          <a:xfrm flipV="1" rot="10800000">
            <a:off x="4190400" y="4597200"/>
            <a:ext cx="1080" cy="9658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0" name=""/>
          <p:cNvCxnSpPr>
            <a:stCxn id="142" idx="2"/>
            <a:endCxn id="143" idx="0"/>
          </p:cNvCxnSpPr>
          <p:nvPr/>
        </p:nvCxnSpPr>
        <p:spPr>
          <a:xfrm flipV="1" rot="10800000">
            <a:off x="6857280" y="4597200"/>
            <a:ext cx="1080" cy="96588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51" name=""/>
          <p:cNvSpPr/>
          <p:nvPr/>
        </p:nvSpPr>
        <p:spPr>
          <a:xfrm>
            <a:off x="4343400" y="2057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without col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952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IDREF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952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of ENTIT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2789-1189-4D24-AFCA-622D4487790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41BE7-EBD9-4B57-BEF2-BBED2FDB11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Number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ree primitive typ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floa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doubl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32/64-bit floating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F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IN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lude expon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decim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no expon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 types based on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bytes (long, short, int, by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ue (negative integer, positive integ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A21-85FE-4F2F-9980-075C1BA718C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5D0E8-F936-444F-A820-7DE65F8ECE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s:decimal Hierarch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>
            <a:off x="3581280" y="12952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dec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22096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312408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onPosi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31240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12408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onNega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03848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ega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0384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3581280" y="495288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581280" y="5791320"/>
            <a:ext cx="1676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403848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posi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67" name=""/>
          <p:cNvCxnSpPr>
            <a:stCxn id="157" idx="2"/>
            <a:endCxn id="158" idx="0"/>
          </p:cNvCxnSpPr>
          <p:nvPr/>
        </p:nvCxnSpPr>
        <p:spPr>
          <a:xfrm>
            <a:off x="4419360" y="17013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58" idx="2"/>
            <a:endCxn id="160" idx="0"/>
          </p:cNvCxnSpPr>
          <p:nvPr/>
        </p:nvCxnSpPr>
        <p:spPr>
          <a:xfrm>
            <a:off x="4419360" y="26157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0" idx="2"/>
            <a:endCxn id="163" idx="0"/>
          </p:cNvCxnSpPr>
          <p:nvPr/>
        </p:nvCxnSpPr>
        <p:spPr>
          <a:xfrm>
            <a:off x="4419360" y="35301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63" idx="2"/>
            <a:endCxn id="164" idx="0"/>
          </p:cNvCxnSpPr>
          <p:nvPr/>
        </p:nvCxnSpPr>
        <p:spPr>
          <a:xfrm>
            <a:off x="4419360" y="44445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64" idx="2"/>
            <a:endCxn id="165" idx="0"/>
          </p:cNvCxnSpPr>
          <p:nvPr/>
        </p:nvCxnSpPr>
        <p:spPr>
          <a:xfrm>
            <a:off x="4419360" y="535932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59" idx="2"/>
            <a:endCxn id="162" idx="0"/>
          </p:cNvCxnSpPr>
          <p:nvPr/>
        </p:nvCxnSpPr>
        <p:spPr>
          <a:xfrm>
            <a:off x="1790280" y="35301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1" idx="2"/>
            <a:endCxn id="166" idx="0"/>
          </p:cNvCxnSpPr>
          <p:nvPr/>
        </p:nvCxnSpPr>
        <p:spPr>
          <a:xfrm>
            <a:off x="7048080" y="353016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58" idx="1"/>
            <a:endCxn id="159" idx="0"/>
          </p:cNvCxnSpPr>
          <p:nvPr/>
        </p:nvCxnSpPr>
        <p:spPr>
          <a:xfrm flipV="1" rot="10800000">
            <a:off x="1789920" y="2412000"/>
            <a:ext cx="1791360" cy="711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5" name=""/>
          <p:cNvCxnSpPr>
            <a:stCxn id="158" idx="3"/>
            <a:endCxn id="161" idx="0"/>
          </p:cNvCxnSpPr>
          <p:nvPr/>
        </p:nvCxnSpPr>
        <p:spPr>
          <a:xfrm>
            <a:off x="5257800" y="2412720"/>
            <a:ext cx="1791360" cy="711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>
            <a:off x="4423680" y="175248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decimal pla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4422240" y="541008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byte: -128 – 1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423320" y="457200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bytes: -32768 – 327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3657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26668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by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438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of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581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of -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581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o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ximum of 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258-58DB-41D0-8782-A1CED35F8D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C5394-3460-45EE-B5F9-01193B288F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s:nonNegativeInteger Hierarch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137160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nonNega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228600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positiveInte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8" name=""/>
          <p:cNvCxnSpPr>
            <a:stCxn id="186" idx="3"/>
            <a:endCxn id="187" idx="0"/>
          </p:cNvCxnSpPr>
          <p:nvPr/>
        </p:nvCxnSpPr>
        <p:spPr>
          <a:xfrm>
            <a:off x="5943600" y="1574640"/>
            <a:ext cx="953280" cy="71208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>
            <a:off x="6705720" y="1600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mum of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36232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unsignedLo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327672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unsigned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25780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unsignedBy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4267080"/>
            <a:ext cx="31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xs:unsignedSh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4" name=""/>
          <p:cNvCxnSpPr>
            <a:stCxn id="186" idx="1"/>
            <a:endCxn id="190" idx="0"/>
          </p:cNvCxnSpPr>
          <p:nvPr/>
        </p:nvCxnSpPr>
        <p:spPr>
          <a:xfrm flipV="1" rot="10800000">
            <a:off x="1866240" y="1574280"/>
            <a:ext cx="953280" cy="7884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1143000" y="16002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 by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6" name=""/>
          <p:cNvCxnSpPr>
            <a:stCxn id="190" idx="2"/>
            <a:endCxn id="191" idx="0"/>
          </p:cNvCxnSpPr>
          <p:nvPr/>
        </p:nvCxnSpPr>
        <p:spPr>
          <a:xfrm>
            <a:off x="1866600" y="2768400"/>
            <a:ext cx="1080" cy="508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1" idx="2"/>
            <a:endCxn id="193" idx="0"/>
          </p:cNvCxnSpPr>
          <p:nvPr/>
        </p:nvCxnSpPr>
        <p:spPr>
          <a:xfrm>
            <a:off x="1866600" y="3683160"/>
            <a:ext cx="1080" cy="584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3" idx="2"/>
            <a:endCxn id="192" idx="0"/>
          </p:cNvCxnSpPr>
          <p:nvPr/>
        </p:nvCxnSpPr>
        <p:spPr>
          <a:xfrm>
            <a:off x="1866600" y="467316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1907640" y="48006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byte: maximum of 25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3809880"/>
            <a:ext cx="29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bytes: maximum of 6553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1905120" y="28195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5B9-4A69-4D54-95C5-0DB255BEB64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5723A-4604-41E8-B1D3-0699B480C7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es and Tim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SO 8601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es and t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dateTi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CCYY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M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DD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hh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m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dat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CCYY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M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tim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hh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mm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egorian dat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gYea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C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gYearMont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CYY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gMont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gMonthDa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M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gDay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---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can have timezones –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+|-)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hh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m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B4B5-6DBA-43C4-A9AF-292BB2B273F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CC290-D535-4703-988E-C964736F49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es and Tim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37160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eTime&gt;2002-07-15T15:42:54.97+01:00&lt;/dateTi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98108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e&gt;2002-07-15Z&lt;/dat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59092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ime&gt;00:02:00&lt;/ti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320040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gYear&gt;-500&lt;/gYear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41972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gMonth&gt;--05&lt;/gMont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380988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gYearMonth&gt;2002-11&lt;/gYearMonth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502920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gMonthDay&gt;--02-18&lt;/gMonthDa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638680"/>
            <a:ext cx="769644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gDay&gt;---15&lt;/gDa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F66-FD65-4D02-B96C-9BA33BCD753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C0136-1EFC-4766-993B-D073A5C077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 type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t-in data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es and ti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type fac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ange, precision and sc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s and enum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F42-CCAF-45D9-A3B6-71562BEAC1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EB8A8-2B6C-4C58-9651-665DA749A9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ur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durat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data 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mat is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-)P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en-GB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es years, months, days, hours, minutes, seco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component can be mis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1Y1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T2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14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P9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wo important subcateg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Year/month du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-)P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y/time du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(-)P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DT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i="1" lang="en-GB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050F-4DE4-4C22-9C27-9B574D15616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28D4B7-0F29-4D71-8358-9256B8CCB2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ther Data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Names throug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Q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s in-scope namespace declarations to identify namespace name and local p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fix isn't part of the QName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ooleans throug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boole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RLs throug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ny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't check the actual UR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capes used as specified in XLi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hexB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base64B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E8E-6CE0-42F9-B4A8-9846A957641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073D2-D6E0-4C65-B461-A0CD40598B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Data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r-Defined Data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fining New Simple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onymously, nested withi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th a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at the top level of the styleshe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w simple type belongs to target namespace of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4648320"/>
            <a:ext cx="784836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code" type="fl:airport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airportCod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26C-729A-4167-BE66-A5AA8D503BE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86912-7F56-42C4-8A31-5DA6B8EE3E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a Type Classifica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omic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ngle values e.g. "a date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itespace-separated lists of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way to specify a different sepa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have lists of lists, or lists of values that can contain whitespace (e.g. strin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ion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binations of data types e.g. "an integer or the token 'Infinity'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have unions of list types, lists of unio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837-E81D-4D6B-B163-E96D5D91A98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472CB-C363-4EC0-8650-FB6F44783A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fining List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types specified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lis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withi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 of items indicated thr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tem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el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352680"/>
            <a:ext cx="784836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time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list item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4648320"/>
            <a:ext cx="784836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option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lis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&gt;...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lis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BD64-65A1-4F45-83FF-1BC94316D5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065CF-2618-4CD5-8593-CF4436375C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fining Union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st types specified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unio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 of members indicated throu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emberTyp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(list of typ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886200"/>
            <a:ext cx="7848360" cy="18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durati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union memberTypes="xs:duration xs:decimal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&gt;...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un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995-03DB-4B23-BD5A-6ABDA8C88D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A2017-D893-4061-AECE-EA770FF098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estricting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types derived by rest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restric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withi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dicate base of derivation throu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as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sted anonymous simpl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plest restriction is an enum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962520"/>
            <a:ext cx="784836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UKAirportCitie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toke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Lond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Birmingham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C89-4470-4CDF-A5D4-19ABF99142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EBFA9B-2455-4E59-83F8-C4FF7DA5C8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Facet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user-defined types restrict values through fac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ngth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lengt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inLength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ax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inExclus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inInclus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axInclusiv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maxExclu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cision and s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totalDigi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fractionDig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restrict lexical representation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doesn't change the valid lexical represen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DAF-AF0B-4392-A55E-A4E154E763E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248BD-F671-419A-8CD9-76CDC94E1F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Length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its of length depend on data 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rings and URIs use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data types use by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types use number of items in l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3276720"/>
            <a:ext cx="4952880" cy="25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simpleType name="dateRang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restri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simple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list itemType="xs:date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minLength value="1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maxLength value="2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038480" y="4876920"/>
            <a:ext cx="4953240" cy="1447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simpleType name="airportCod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restriction base="xs:token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length value="3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1A1-2C67-483E-9A62-BE36B7723CB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F2EC9-4BE0-4D0B-B328-CD15B2477D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Data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sic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ang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anges can apply to numbers, to date/times and to du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2362320"/>
            <a:ext cx="784872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pric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decimal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minExclusive value="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maxInclusive value="100000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495680"/>
            <a:ext cx="784872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flightTim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durati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minInclusive value="PT30M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DF0-A67B-40A6-98C9-34D0222B06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F5C8C-C02C-4271-A4C5-6A7FDB8E22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igit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n specify maximum digits allowed in total or after the decimal poi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is doesn't fix the number of digits in the lexical representation, just in the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3352680"/>
            <a:ext cx="7848360" cy="198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fixed8.2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decimal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totalDigits value="1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fractionDigits value="2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562720"/>
            <a:ext cx="3657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2345678.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5562720"/>
            <a:ext cx="3657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000012345678.91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8AF-C00A-477D-B0CA-F73B0F8B800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94A30-90CC-4AE2-8A82-A745ACEFA3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Patter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tterns are the only facet that limit the lexical repres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s a last resort – other facets are a lot easier for applications to use because they can act as a guide rather than just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tterns use Perl-based regular expression synt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ways match the entire st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match Unicode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patter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elements provide alternative regular expre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286-BDF8-4A31-A11E-878E9B7B554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00EC7-6DD9-4BA3-BBD2-BB1A9F6281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egular Express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04920" y="1295280"/>
          <a:ext cx="8381880" cy="4921200"/>
        </p:xfrm>
        <a:graphic>
          <a:graphicData uri="http://schemas.openxmlformats.org/drawingml/2006/table">
            <a:tbl>
              <a:tblPr/>
              <a:tblGrid>
                <a:gridCol w="3352680"/>
                <a:gridCol w="502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X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Y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X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r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onal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e or more of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number of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quence of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least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pr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{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,M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ween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nd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r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s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in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^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s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not in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[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sA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[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harsB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]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in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s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and not in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s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7C8-0194-4D3B-90B3-91DBFDADE27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4EA73-9228-4171-B185-175008D15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pecial Character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304920" y="1295280"/>
          <a:ext cx="8381880" cy="4010040"/>
        </p:xfrm>
        <a:graphic>
          <a:graphicData uri="http://schemas.openxmlformats.org/drawingml/2006/table">
            <a:tbl>
              <a:tblPr/>
              <a:tblGrid>
                <a:gridCol w="2438280"/>
                <a:gridCol w="5943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except line brea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word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tespace charac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dig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p{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tegory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in Unicode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P{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tegory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not in Unicode 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p{Is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lock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in Unicode 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\P{Is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lock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y character not in Unicode 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533520" y="5486400"/>
            <a:ext cx="78483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pattern value="\p{Lu}{3}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3DE7-5254-4FD6-B62A-C91F2C7E6BB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0518C-E68E-4C38-8470-C6A76EEDBF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types have a value space and a lexical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e lexical representation is canon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types form hier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s cover range of values, including strings, numbers, dates and times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s can be restrictions, lists or unions of other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s are restricted using fac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ngths, ranges, numbers of dig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ular expre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47B-7A19-449E-A631-04024611D4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BA805-2749-4A28-8B0D-9C77CF7A1F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reate simple data types for attributes and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enumerations to list individual val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facets to limit other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lexical constraints with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periment with whitespace use and different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B567-191C-4847-9E8E-F9EF75416D2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BEE97-FC68-420E-946C-F918576EC6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a Type Us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es and text-only elements have simpl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ed through type attribute 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ed through nested anonymous simple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4419720"/>
            <a:ext cx="8458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me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5029200"/>
            <a:ext cx="8458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m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&gt;... 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3809880"/>
            <a:ext cx="84582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name" type="xs:string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401-AD89-400E-9414-FDB104FC1C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E6F1C-2E10-4B23-9DAD-D5FEF5277E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hat is a Data Type?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types are defined by their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alue 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 of values that are valid for that data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42 is a valid decimal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ch value can have one or mor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exical re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tual text present in XML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42 could be represented as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42.00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00042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lexical representation is th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anonical lexical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42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A2A4-77B3-486E-AF16-FEE7C2F5AF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DBB254-CD7B-4FA6-993E-532C74858F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alidity and Whitespa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ues of a particular type must be in one of the valid lexical representations for that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data types, whitespace is collapsed prior to assess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itespace characters replaced by sp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ding and trailing whitespace stripp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uns of spaces replaced by single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ceptions 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tr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whitespace unaffe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normalizedString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whitespace repl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7AE-83CC-4A75-9A68-FA7EA55D97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44D65-E007-423C-96F1-70C6C604DD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Lexical Representation Exampl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676520"/>
            <a:ext cx="8458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version" type="xs:decim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xed="1.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743200"/>
            <a:ext cx="22096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1.0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124080"/>
            <a:ext cx="190476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2743200"/>
            <a:ext cx="22096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001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743200"/>
            <a:ext cx="251460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1.000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267080"/>
            <a:ext cx="8458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version" type="xs:strin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xed="1.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181480"/>
            <a:ext cx="22096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1.0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3124080"/>
            <a:ext cx="2209680" cy="457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ersion=" 1 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D5C-AAC4-476A-88D4-E674D1B843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46918-5103-4D4E-A9D5-0A65CF706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a Type Hierarchi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types formed into hier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rimitiv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data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ic building blo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eriv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data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ased on the primitive data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types derived by rest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lower down the type hierarchy are more restri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f a value is valid for a type, it's also valid for its bas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ception with strings due to whitespace proces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F2AE-8DF5-4C07-BB76-AEA98FB43D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DF7EC-4128-40DA-B3CA-F1DB9306A3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ata Type Categori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sed on the origin of the data 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Built-i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ined in XML Schema Recommen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the primitive data types are built-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me of the built-in data types are derived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r-defin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ined in a particular schema using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user-defined data types are derived from built-in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ata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B54-0BFA-4CCD-BE26-A56EF09099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DA0FF-FC6F-4B88-9F0E-45282FD986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6Z</dcterms:modified>
  <cp:revision>23</cp:revision>
  <dc:subject/>
  <dc:title>XML Schema</dc:title>
</cp:coreProperties>
</file>