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7A81C-21D5-4031-B3E1-5D6975519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ff99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52280" y="1142640"/>
            <a:ext cx="8839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52280" y="3849120"/>
            <a:ext cx="8839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8774A-D433-48E8-BF4A-8AE9EE826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ff99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280" y="1142640"/>
            <a:ext cx="43135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1800" y="1142640"/>
            <a:ext cx="43135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52280" y="3849120"/>
            <a:ext cx="43135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1800" y="3849120"/>
            <a:ext cx="43135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17B18-EC16-4898-8D96-6C59E5566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ff99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52280" y="1142640"/>
            <a:ext cx="2846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41000" y="1142640"/>
            <a:ext cx="2846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30080" y="1142640"/>
            <a:ext cx="2846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52280" y="3849120"/>
            <a:ext cx="2846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41000" y="3849120"/>
            <a:ext cx="2846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30080" y="3849120"/>
            <a:ext cx="2846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5635D-D86C-41CB-BD88-01C955FB3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ff99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280" y="1142640"/>
            <a:ext cx="883944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ff99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2280" y="1142640"/>
            <a:ext cx="8839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ff99"/>
              </a:solidFill>
              <a:latin typeface="Trebuchet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52280" y="1142640"/>
            <a:ext cx="43135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81800" y="1142640"/>
            <a:ext cx="43135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ff99"/>
              </a:solidFill>
              <a:latin typeface="Trebuchet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52280" y="151920"/>
            <a:ext cx="876312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ff99"/>
              </a:solidFill>
              <a:latin typeface="Trebuchet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52280" y="1142640"/>
            <a:ext cx="43135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1800" y="1142640"/>
            <a:ext cx="43135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52280" y="3849120"/>
            <a:ext cx="43135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ff99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52280" y="1142640"/>
            <a:ext cx="883944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3EE8A-56FA-45DA-8C5A-CA64FB08A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ff99"/>
              </a:solidFill>
              <a:latin typeface="Trebuchet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2280" y="1142640"/>
            <a:ext cx="43135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1800" y="1142640"/>
            <a:ext cx="43135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81800" y="3849120"/>
            <a:ext cx="43135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ff99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52280" y="1142640"/>
            <a:ext cx="43135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1800" y="1142640"/>
            <a:ext cx="43135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52280" y="3849120"/>
            <a:ext cx="8839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ff99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52280" y="1142640"/>
            <a:ext cx="8839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52280" y="3849120"/>
            <a:ext cx="8839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ff99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52280" y="1142640"/>
            <a:ext cx="43135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1800" y="1142640"/>
            <a:ext cx="43135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52280" y="3849120"/>
            <a:ext cx="43135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81800" y="3849120"/>
            <a:ext cx="43135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ff99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52280" y="1142640"/>
            <a:ext cx="2846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41000" y="1142640"/>
            <a:ext cx="2846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30080" y="1142640"/>
            <a:ext cx="2846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52280" y="3849120"/>
            <a:ext cx="2846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41000" y="3849120"/>
            <a:ext cx="2846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30080" y="3849120"/>
            <a:ext cx="2846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ff99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2280" y="1142640"/>
            <a:ext cx="8839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F40F9-8DD6-41BF-85E3-D7227D966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ff99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52280" y="1142640"/>
            <a:ext cx="43135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1800" y="1142640"/>
            <a:ext cx="43135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9E834-9873-4924-A91B-D0CD5D4A1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ff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42DDB-7811-46E6-AAAD-DEBA25F15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52280" y="151920"/>
            <a:ext cx="876312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4F594-CDBF-4106-847D-24180F045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ff99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52280" y="1142640"/>
            <a:ext cx="43135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1800" y="1142640"/>
            <a:ext cx="43135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52280" y="3849120"/>
            <a:ext cx="43135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3D583-362F-4399-AACE-7D2800EB5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ff99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52280" y="1142640"/>
            <a:ext cx="43135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1800" y="1142640"/>
            <a:ext cx="43135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1800" y="3849120"/>
            <a:ext cx="43135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8D96A-E0E2-4FA7-8052-298FBCD50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ff99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52280" y="1142640"/>
            <a:ext cx="43135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800" y="1142640"/>
            <a:ext cx="43135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52280" y="3849120"/>
            <a:ext cx="8839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64E1F-8B40-4D4A-B0C2-9C39811BF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280" y="1142640"/>
            <a:ext cx="8839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522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7CF2C-BFE0-4A08-B3C3-42C1CE220028}" type="datetime5">
              <a:rPr b="0" lang="en-US" sz="1200" spc="-1" strike="noStrike">
                <a:solidFill>
                  <a:srgbClr val="808080"/>
                </a:solidFill>
                <a:latin typeface="Times New Roman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209680" y="6400440"/>
            <a:ext cx="47246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2C78F-4DDB-45C3-9CBA-0169E20DA173}" type="slidenum">
              <a:rPr b="0" lang="en-US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ff99"/>
                </a:solidFill>
                <a:latin typeface="Trebuchet MS"/>
              </a:rPr>
              <a:t>Click to edit the title text format</a:t>
            </a:r>
            <a:endParaRPr b="1" lang="en-US" sz="4000" spc="-1" strike="noStrike">
              <a:solidFill>
                <a:srgbClr val="99ff99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447560"/>
            <a:ext cx="8153280" cy="114300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ff99"/>
                </a:solidFill>
                <a:latin typeface="Trebuchet MS"/>
              </a:rPr>
              <a:t>Click to edit the title text format</a:t>
            </a:r>
            <a:endParaRPr b="1" lang="en-US" sz="4800" spc="-1" strike="noStrike">
              <a:solidFill>
                <a:srgbClr val="99ff99"/>
              </a:solidFill>
              <a:latin typeface="Trebuchet MS"/>
            </a:endParaRPr>
          </a:p>
        </p:txBody>
      </p:sp>
      <p:sp>
        <p:nvSpPr>
          <p:cNvPr id="43" name=""/>
          <p:cNvSpPr/>
          <p:nvPr/>
        </p:nvSpPr>
        <p:spPr>
          <a:xfrm>
            <a:off x="3489480" y="5746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800080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800080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800080"/>
              </a:buClr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560"/>
            <a:ext cx="8153280" cy="114300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99ff99"/>
                </a:solidFill>
                <a:latin typeface="Trebuchet MS"/>
              </a:rPr>
              <a:t>XML Schema</a:t>
            </a:r>
            <a:endParaRPr b="1" lang="en-US" sz="4800" spc="-1" strike="noStrike">
              <a:solidFill>
                <a:srgbClr val="99ff99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295280" y="3200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XML Structur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99ff99"/>
                </a:solidFill>
                <a:latin typeface="Trebuchet MS"/>
              </a:rPr>
              <a:t>Element Wildcards</a:t>
            </a:r>
            <a:endParaRPr b="1" lang="en-US" sz="4000" spc="-1" strike="noStrike">
              <a:solidFill>
                <a:srgbClr val="99ff99"/>
              </a:solidFill>
              <a:latin typeface="Trebuchet MS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" y="1447920"/>
            <a:ext cx="8686800" cy="41148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xs:element name="flight"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xs:complexType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xs:sequence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xs:any namespace="##local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   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http://www.w3.org/1999/xhtml"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minOccurs="0" /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xs:element ref="fl:depart" /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xs:element ref="fl:arrive" /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xs:any namespace="##targetNamespace" /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xs:any namespace="##other" maxOccurs="unbounded" /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/xs:sequence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/xs:complexType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/xs:element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XML Schema: XML Structur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522FA-EC5D-4877-98D6-0A719B34A151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910F85-1828-4F4F-A5DA-427DB2F7C90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99ff99"/>
                </a:solidFill>
                <a:latin typeface="Trebuchet MS"/>
              </a:rPr>
              <a:t>Validating Wildcards</a:t>
            </a:r>
            <a:endParaRPr b="1" lang="en-US" sz="4000" spc="-1" strike="noStrike">
              <a:solidFill>
                <a:srgbClr val="99ff99"/>
              </a:solidFill>
              <a:latin typeface="Trebuchet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52280" y="1142640"/>
            <a:ext cx="8839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Wildcard validation controlled by </a:t>
            </a:r>
            <a:r>
              <a:rPr b="1" lang="en-GB" sz="3200" spc="-1" strike="noStrike">
                <a:solidFill>
                  <a:srgbClr val="000000"/>
                </a:solidFill>
                <a:latin typeface="Courier New"/>
              </a:rPr>
              <a:t>processContents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 attribut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0008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strict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(default) – invalid if no element declar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0008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lax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– doesn't validate if there isn't an element declar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0008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skip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– always valid (never validates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Use wildcards to provide extensible schema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XML Schema: XML Structur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F8086-B79E-413A-945C-40261441262F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838A57-D5CD-4887-BE79-1EE80B84A22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99ff99"/>
                </a:solidFill>
                <a:latin typeface="Trebuchet MS"/>
              </a:rPr>
              <a:t>Mixed Content</a:t>
            </a:r>
            <a:endParaRPr b="1" lang="en-US" sz="4000" spc="-1" strike="noStrike">
              <a:solidFill>
                <a:srgbClr val="99ff99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52280" y="1142640"/>
            <a:ext cx="8839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Mixed content indicated with </a:t>
            </a: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mixed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attribute on </a:t>
            </a: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xs:complexType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with the value tru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Mixed content can coexist with a normal content mod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Possible to constrain order and occurrence of elements in mixed cont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"/>
          <p:cNvSpPr/>
          <p:nvPr/>
        </p:nvSpPr>
        <p:spPr>
          <a:xfrm>
            <a:off x="609480" y="3962520"/>
            <a:ext cx="8229600" cy="2286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xs:element name="name"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xs:complexType mixed="true"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xs:sequence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xs:element name="surname" /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/xs:sequence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/xs:complexType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/xs:element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XML Schema: XML Structur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9F341-EABE-4EA7-AF5B-4607AA6A86D0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A1DD20-75C9-40D4-9CFE-12AC7F48C01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99ff99"/>
                </a:solidFill>
                <a:latin typeface="Trebuchet MS"/>
              </a:rPr>
              <a:t>Determinism</a:t>
            </a:r>
            <a:endParaRPr b="1" lang="en-US" sz="4000" spc="-1" strike="noStrike">
              <a:solidFill>
                <a:srgbClr val="99ff99"/>
              </a:solidFill>
              <a:latin typeface="Trebuchet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52280" y="1142640"/>
            <a:ext cx="8839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Like DTD content models, content models in XML Schema must be deterministic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t any point, a validator must know which particle to use to validate a particular ele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Validators use only the QName of an element to determine the particle, not its typ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an't say "a choice between an X element of type A or an X element of type B"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omewhat complicated b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Wildcards make it easier to accidentally create non-deterministic content mode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Numerical occurrence indicators make ambiguous content models possib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XML Schema: XML Structur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D7568-A14B-4D0A-9501-2374A1062DE8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6E4297-FF0B-484C-8D5A-E8BE1057343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99ff99"/>
                </a:solidFill>
                <a:latin typeface="Trebuchet MS"/>
              </a:rPr>
              <a:t>Non-Deterministic Content Models</a:t>
            </a:r>
            <a:endParaRPr b="1" lang="en-US" sz="4000" spc="-1" strike="noStrike">
              <a:solidFill>
                <a:srgbClr val="99ff99"/>
              </a:solidFill>
              <a:latin typeface="Trebuchet MS"/>
            </a:endParaRPr>
          </a:p>
        </p:txBody>
      </p:sp>
      <p:sp>
        <p:nvSpPr>
          <p:cNvPr id="115" name=""/>
          <p:cNvSpPr/>
          <p:nvPr/>
        </p:nvSpPr>
        <p:spPr>
          <a:xfrm>
            <a:off x="228600" y="1219320"/>
            <a:ext cx="8686800" cy="41148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xs:element name="flight"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xs:complexType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xs:sequence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xs:element ref="fl:depart" /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xs:element ref="fl:arrive" minOccurs="0" /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xs:any namespace="##targetNamespace" /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xs:any namespace="##other" maxOccurs="unbounded" /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xs:any namespace="##local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   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http://www.w3.org/1999/xhtml"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minOccurs="0" /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/xs:sequence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/xs:complexType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/xs:element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"/>
          <p:cNvSpPr/>
          <p:nvPr/>
        </p:nvSpPr>
        <p:spPr>
          <a:xfrm>
            <a:off x="533520" y="2514600"/>
            <a:ext cx="228600" cy="609480"/>
          </a:xfrm>
          <a:custGeom>
            <a:avLst/>
            <a:gdLst>
              <a:gd name="textAreaLeft" fmla="*/ 146160 w 228600"/>
              <a:gd name="textAreaRight" fmla="*/ 228960 w 228600"/>
              <a:gd name="textAreaTop" fmla="*/ 15840 h 609480"/>
              <a:gd name="textAreaBottom" fmla="*/ 59364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"/>
          <p:cNvSpPr/>
          <p:nvPr/>
        </p:nvSpPr>
        <p:spPr>
          <a:xfrm>
            <a:off x="533520" y="3124080"/>
            <a:ext cx="228600" cy="11430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"/>
          <p:cNvSpPr/>
          <p:nvPr/>
        </p:nvSpPr>
        <p:spPr>
          <a:xfrm>
            <a:off x="4114800" y="4343400"/>
            <a:ext cx="4648320" cy="1981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fl:flight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fl:depart&gt;...&lt;/fl:depart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fl:arrive&gt;...&lt;/fl:arrive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cat:meal&gt;...&lt;/cat:meal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html:p&gt;...&lt;/html:p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/fl:flight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666880"/>
            <a:ext cx="381240" cy="381240"/>
          </a:xfrm>
          <a:prstGeom prst="ellipse">
            <a:avLst/>
          </a:prstGeom>
          <a:solidFill>
            <a:srgbClr val="ccffcc"/>
          </a:solidFill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00080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"/>
          <p:cNvSpPr/>
          <p:nvPr/>
        </p:nvSpPr>
        <p:spPr>
          <a:xfrm>
            <a:off x="152280" y="3505320"/>
            <a:ext cx="381240" cy="380880"/>
          </a:xfrm>
          <a:prstGeom prst="ellipse">
            <a:avLst/>
          </a:prstGeom>
          <a:solidFill>
            <a:srgbClr val="ccffcc"/>
          </a:solidFill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00080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"/>
          <p:cNvSpPr/>
          <p:nvPr/>
        </p:nvSpPr>
        <p:spPr>
          <a:xfrm>
            <a:off x="3962520" y="4952880"/>
            <a:ext cx="380880" cy="381240"/>
          </a:xfrm>
          <a:prstGeom prst="ellipse">
            <a:avLst/>
          </a:prstGeom>
          <a:solidFill>
            <a:srgbClr val="ccffcc"/>
          </a:solidFill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00080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"/>
          <p:cNvSpPr/>
          <p:nvPr/>
        </p:nvSpPr>
        <p:spPr>
          <a:xfrm>
            <a:off x="3962520" y="5562720"/>
            <a:ext cx="380880" cy="380880"/>
          </a:xfrm>
          <a:prstGeom prst="ellipse">
            <a:avLst/>
          </a:prstGeom>
          <a:solidFill>
            <a:srgbClr val="ccffcc"/>
          </a:solidFill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00080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XML Schema: XML Structur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E9E1B-4A3E-4770-9DFB-C922EB0AF363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357916-0E12-482F-9EDD-8EC66DC07BA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1447560"/>
            <a:ext cx="8153280" cy="114300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99ff99"/>
                </a:solidFill>
                <a:latin typeface="Trebuchet MS"/>
              </a:rPr>
              <a:t>XML Schema Structures</a:t>
            </a:r>
            <a:endParaRPr b="1" lang="en-US" sz="4800" spc="-1" strike="noStrike">
              <a:solidFill>
                <a:srgbClr val="99ff99"/>
              </a:solidFill>
              <a:latin typeface="Trebuchet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295280" y="3200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Global and Local Declara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99ff99"/>
                </a:solidFill>
                <a:latin typeface="Trebuchet MS"/>
              </a:rPr>
              <a:t>Local Declarations</a:t>
            </a:r>
            <a:endParaRPr b="1" lang="en-US" sz="4000" spc="-1" strike="noStrike">
              <a:solidFill>
                <a:srgbClr val="99ff99"/>
              </a:solidFill>
              <a:latin typeface="Trebuchet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52280" y="1142640"/>
            <a:ext cx="8839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Global declarations at top level of schem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Only one allowed for a particular nam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Local declarations within content mode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oesn't override existing declaration (as in XDR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annot be referred to from other model group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"/>
          <p:cNvSpPr/>
          <p:nvPr/>
        </p:nvSpPr>
        <p:spPr>
          <a:xfrm>
            <a:off x="228600" y="3505320"/>
            <a:ext cx="8686800" cy="2819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xs:sequence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xs:element name="depart" /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xs:element name="arrive" /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xs:element name="price" maxOccurs="unbounded" /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xs:choice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xs:element name="direct" /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xs:element name="leg" minOccurs="2" maxOccurs="4" /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/xs:choice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/xs:sequence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XML Schema: XML Structur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F6FED-BB69-4D79-961D-1165FB657EA0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D374A4-672A-4DF8-BFB1-B2FA3527940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99ff99"/>
                </a:solidFill>
                <a:latin typeface="Trebuchet MS"/>
              </a:rPr>
              <a:t>Local Declarations and Namespaces</a:t>
            </a:r>
            <a:endParaRPr b="1" lang="en-US" sz="4000" spc="-1" strike="noStrike">
              <a:solidFill>
                <a:srgbClr val="99ff99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-360" y="1142640"/>
            <a:ext cx="88390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Global declarations declare elements in the target namespace of the schem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Local declarations can declare elements in the target namespace of the schema </a:t>
            </a:r>
            <a:r>
              <a:rPr b="0" i="1" lang="en-GB" sz="2800" spc="-1" strike="noStrike">
                <a:solidFill>
                  <a:srgbClr val="000000"/>
                </a:solidFill>
                <a:latin typeface="Verdana"/>
              </a:rPr>
              <a:t>or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in no namespa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epends on the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form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attribute on the declaration or the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elementFormDefault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or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attributeFormDefault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attribute on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xs:schem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0008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qualified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means in target namespa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0008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unqualified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(default) means in no namespa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XML Schema: XML Structur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79DEE-8147-4D7C-97C6-FF897D0634CA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91F294-7221-49E9-B852-77737B24D17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99ff99"/>
                </a:solidFill>
                <a:latin typeface="Trebuchet MS"/>
              </a:rPr>
              <a:t>Unqualified (default)</a:t>
            </a:r>
            <a:endParaRPr b="1" lang="en-US" sz="4000" spc="-1" strike="noStrike">
              <a:solidFill>
                <a:srgbClr val="99ff99"/>
              </a:solidFill>
              <a:latin typeface="Trebuchet MS"/>
            </a:endParaRPr>
          </a:p>
        </p:txBody>
      </p:sp>
      <p:sp>
        <p:nvSpPr>
          <p:cNvPr id="131" name=""/>
          <p:cNvSpPr/>
          <p:nvPr/>
        </p:nvSpPr>
        <p:spPr>
          <a:xfrm>
            <a:off x="228600" y="1219320"/>
            <a:ext cx="8686800" cy="3657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xs:schema xmlns:xs="http://www.w3.org/2001/XMLSchema"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argetNamespace="http://www.example.com/flights"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xs:element name="flight"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xs:complexType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xs:sequence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xs:element name="depart" /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xs:element name="arrive" /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/xs:sequence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/xs:complexType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/xs:element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5029200"/>
            <a:ext cx="8686800" cy="1371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fl:flight xmlns:fl="http://www.example.com/flights"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depart&gt;...&lt;/depart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arrive&gt;...&lt;/arrive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/fl:flight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XML Schema: XML Structur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5A8CB-490B-496A-A348-353D24F541AE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8A85F3-4F33-4E61-A44A-E1966A6CF99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99ff99"/>
                </a:solidFill>
                <a:latin typeface="Trebuchet MS"/>
              </a:rPr>
              <a:t>Qualified</a:t>
            </a:r>
            <a:endParaRPr b="1" lang="en-US" sz="4000" spc="-1" strike="noStrike">
              <a:solidFill>
                <a:srgbClr val="99ff99"/>
              </a:solidFill>
              <a:latin typeface="Trebuchet MS"/>
            </a:endParaRPr>
          </a:p>
        </p:txBody>
      </p:sp>
      <p:sp>
        <p:nvSpPr>
          <p:cNvPr id="134" name=""/>
          <p:cNvSpPr/>
          <p:nvPr/>
        </p:nvSpPr>
        <p:spPr>
          <a:xfrm>
            <a:off x="228600" y="1219320"/>
            <a:ext cx="8686800" cy="3657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xs:schema xmlns:xs="http://www.w3.org/2001/XMLSchema"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argetNamespace="http://www.example.com/flights"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elementFormDefault="qualified"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xs:element name="flight"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xs:complexType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xs:sequence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xs:element name="depart" /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xs:element name="arrive" /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/xs:sequence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/xs:complexType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/xs:element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"/>
          <p:cNvSpPr/>
          <p:nvPr/>
        </p:nvSpPr>
        <p:spPr>
          <a:xfrm>
            <a:off x="228600" y="5029200"/>
            <a:ext cx="8686800" cy="1371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flight xmlns="http://www.example.com/flights"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depart&gt;...&lt;/depart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arrive&gt;...&lt;/arrive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/flight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XML Schema: XML Structur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14FB7-938E-4E1E-9744-79919C9623C6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BF6886-3AB7-4293-82B4-EC23E00DF2A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99ff99"/>
                </a:solidFill>
                <a:latin typeface="Trebuchet MS"/>
              </a:rPr>
              <a:t>Overview</a:t>
            </a:r>
            <a:endParaRPr b="1" lang="en-US" sz="4000" spc="-1" strike="noStrike">
              <a:solidFill>
                <a:srgbClr val="99ff99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2280" y="1142640"/>
            <a:ext cx="8839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Content model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"All" content mode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Element Wildcar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Global and local declara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Qualified and unqualified form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ttribute declarations and wildca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Default and fixed valu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Named groups and attribute group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Defining reusable elements and attribut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XML Schema: XML Structur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711E7-083B-4BAB-ADC4-CF58B13A895A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6A4AAE-94B1-4CE1-A6EE-17B77FD9412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99ff99"/>
                </a:solidFill>
                <a:latin typeface="Trebuchet MS"/>
              </a:rPr>
              <a:t>Mixture</a:t>
            </a:r>
            <a:endParaRPr b="1" lang="en-US" sz="4000" spc="-1" strike="noStrike">
              <a:solidFill>
                <a:srgbClr val="99ff99"/>
              </a:solidFill>
              <a:latin typeface="Trebuchet MS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" y="1219320"/>
            <a:ext cx="8686800" cy="3657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xs:schema xmlns:xs="http://www.w3.org/2001/XMLSchema"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argetNamespace="http://www.example.com/flights"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elementFormDefault="qualified"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xs:element name="flight"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xs:complexType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xs:sequence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xs:element name="depart" form="unqualified" /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xs:element name="arrive" /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/xs:sequence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/xs:complexType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/xs:element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" y="5029200"/>
            <a:ext cx="8686800" cy="1371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fl:flight xmlns:fl="http://www.example.com/flights"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depart&gt;...&lt;/depart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fl:arrive&gt;...&lt;/fl:arrive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/fl:flight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XML Schema: XML Structur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E9402-A02D-4DAB-BCAC-02AB98ECF735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9FAE5B-92F5-44C6-9238-E488BEBD9FA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1447560"/>
            <a:ext cx="8153280" cy="114300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99ff99"/>
                </a:solidFill>
                <a:latin typeface="Trebuchet MS"/>
              </a:rPr>
              <a:t>XML Schema Structures</a:t>
            </a:r>
            <a:endParaRPr b="1" lang="en-US" sz="4800" spc="-1" strike="noStrike">
              <a:solidFill>
                <a:srgbClr val="99ff99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1295280" y="3200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ttribute Declara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99ff99"/>
                </a:solidFill>
                <a:latin typeface="Trebuchet MS"/>
              </a:rPr>
              <a:t>Attribute Declarations</a:t>
            </a:r>
            <a:endParaRPr b="1" lang="en-US" sz="4000" spc="-1" strike="noStrike">
              <a:solidFill>
                <a:srgbClr val="99ff99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52280" y="1142640"/>
            <a:ext cx="8839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Declare attribute with </a:t>
            </a:r>
            <a:r>
              <a:rPr b="1" lang="en-GB" sz="3200" spc="-1" strike="noStrike">
                <a:solidFill>
                  <a:srgbClr val="000000"/>
                </a:solidFill>
                <a:latin typeface="Courier New"/>
              </a:rPr>
              <a:t>xs:attribut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0008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name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attribute specifies (local) nam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ssociate with type in two ways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Use </a:t>
            </a: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type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attribu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Refer to named simple typ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Nested </a:t>
            </a: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xs:simpleType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el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nonymous simple typ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"/>
          <p:cNvSpPr/>
          <p:nvPr/>
        </p:nvSpPr>
        <p:spPr>
          <a:xfrm>
            <a:off x="457200" y="4800600"/>
            <a:ext cx="8458200" cy="380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xs:attribute name="time" type="xs:time" /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"/>
          <p:cNvSpPr/>
          <p:nvPr/>
        </p:nvSpPr>
        <p:spPr>
          <a:xfrm>
            <a:off x="457200" y="5257800"/>
            <a:ext cx="8458200" cy="10666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xs:attribute name="time"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xs:simpleType&gt;... &lt;/xs:simpleType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/xs:attribute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XML Schema: XML Structur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99287-85B0-4C83-B76B-F83984C3978C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A7D74B-9859-43EA-AC6D-64067023531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99ff99"/>
                </a:solidFill>
                <a:latin typeface="Trebuchet MS"/>
              </a:rPr>
              <a:t>Attribute Occurrence</a:t>
            </a:r>
            <a:endParaRPr b="1" lang="en-US" sz="4000" spc="-1" strike="noStrike">
              <a:solidFill>
                <a:srgbClr val="99ff99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52280" y="1142640"/>
            <a:ext cx="8839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ttributes declared/referenced within complex types, after content mod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Occurrence indicated by use attribu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0008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required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or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optional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(default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0008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prohibited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used when restricting complex typ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"/>
          <p:cNvSpPr/>
          <p:nvPr/>
        </p:nvSpPr>
        <p:spPr>
          <a:xfrm>
            <a:off x="228600" y="3505320"/>
            <a:ext cx="8686800" cy="2819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xs:element name="depart"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xs:complexType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xs:sequence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xs:element ref="airport" /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/xs:sequence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xs:attribute name="time" type="xs:time"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use="required" /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/xs:complexType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/xs:element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XML Schema: XML Structur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5333A-53CE-42E6-9D2F-C1D675ACEBA0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012ED9-CA85-4136-9CE4-7C31CA8025F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99ff99"/>
                </a:solidFill>
                <a:latin typeface="Trebuchet MS"/>
              </a:rPr>
              <a:t>Attributes with Text Content</a:t>
            </a:r>
            <a:endParaRPr b="1" lang="en-US" sz="4000" spc="-1" strike="noStrike">
              <a:solidFill>
                <a:srgbClr val="99ff99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52280" y="1142640"/>
            <a:ext cx="8839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ttributes extend simple cont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base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attribute of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xs:extension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specifies type of cont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ttributes specified in content of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xs:extens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200400"/>
            <a:ext cx="8381880" cy="2819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xs:element name="price"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xs:complexType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xs:simpleContent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xs:extension base="xs:decimal"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xs:attribute name="currency" type="xs:token" /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/xs:extension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/xs:simpleContent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/xs:complexType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/xs:element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XML Schema: XML Structur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F0B21-1BF0-449F-96C4-18D725F37084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54AC3B-9966-409D-85B3-DFBA3C1209C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99ff99"/>
                </a:solidFill>
                <a:latin typeface="Trebuchet MS"/>
              </a:rPr>
              <a:t>Attribute Wildcard</a:t>
            </a:r>
            <a:endParaRPr b="1" lang="en-US" sz="4000" spc="-1" strike="noStrike">
              <a:solidFill>
                <a:srgbClr val="99ff99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52280" y="1142640"/>
            <a:ext cx="8839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Wildcard </a:t>
            </a:r>
            <a:r>
              <a:rPr b="1" lang="en-GB" sz="3200" spc="-1" strike="noStrike">
                <a:solidFill>
                  <a:srgbClr val="000000"/>
                </a:solidFill>
                <a:latin typeface="Courier New"/>
              </a:rPr>
              <a:t>xs:anyAttribute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 similar to </a:t>
            </a:r>
            <a:r>
              <a:rPr b="1" lang="en-GB" sz="3200" spc="-1" strike="noStrike">
                <a:solidFill>
                  <a:srgbClr val="000000"/>
                </a:solidFill>
                <a:latin typeface="Courier New"/>
              </a:rPr>
              <a:t>xs:an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llows any number of attribut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No occurrence indicato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Use </a:t>
            </a:r>
            <a:r>
              <a:rPr b="1" lang="en-GB" sz="3200" spc="-1" strike="noStrike">
                <a:solidFill>
                  <a:srgbClr val="000000"/>
                </a:solidFill>
                <a:latin typeface="Courier New"/>
              </a:rPr>
              <a:t>namespace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 attribute to limit namespa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Use </a:t>
            </a:r>
            <a:r>
              <a:rPr b="1" lang="en-GB" sz="3200" spc="-1" strike="noStrike">
                <a:solidFill>
                  <a:srgbClr val="000000"/>
                </a:solidFill>
                <a:latin typeface="Courier New"/>
              </a:rPr>
              <a:t>processContents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 attribute to control validation proces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5562720"/>
            <a:ext cx="8305920" cy="7617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xs:anyAttribute namespace="##other"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rocessContents="lax" /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XML Schema: XML Structur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6B03D-DD6A-4BA0-90A5-F9D662B647EC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591C36-4CF3-42E9-A29C-E47B39E86B7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99ff99"/>
                </a:solidFill>
                <a:latin typeface="Trebuchet MS"/>
              </a:rPr>
              <a:t>Default and Fixed Values</a:t>
            </a:r>
            <a:endParaRPr b="1" lang="en-US" sz="4000" spc="-1" strike="noStrike">
              <a:solidFill>
                <a:srgbClr val="99ff99"/>
              </a:solidFill>
              <a:latin typeface="Trebuchet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52280" y="1142640"/>
            <a:ext cx="8839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pecify default value with </a:t>
            </a: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default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attribu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pply if attribute is miss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pply if element is present but emp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pecify fixed value with </a:t>
            </a: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fixed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attribu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Values must be valid against typ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Can't specify default or fixed value for elements or attributes of </a:t>
            </a: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xs:ID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typ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5486400"/>
            <a:ext cx="8458200" cy="6858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xs:element name="class" type="flightClass"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default="economy" /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"/>
          <p:cNvSpPr/>
          <p:nvPr/>
        </p:nvSpPr>
        <p:spPr>
          <a:xfrm>
            <a:off x="304920" y="4572000"/>
            <a:ext cx="8458200" cy="6858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xs:attribute name="version" type="xs:decimal"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ixed="1.0" /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XML Schema: XML Structur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3EF19-B3ED-49BD-85DE-FEA0687DAD05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C95E64-F53D-402C-A9ED-641733B286D2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447560"/>
            <a:ext cx="8153280" cy="114300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99ff99"/>
                </a:solidFill>
                <a:latin typeface="Trebuchet MS"/>
              </a:rPr>
              <a:t>XML Schema Structures</a:t>
            </a:r>
            <a:endParaRPr b="1" lang="en-US" sz="4800" spc="-1" strike="noStrike">
              <a:solidFill>
                <a:srgbClr val="99ff99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295280" y="3200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Named Groups and Attribute Group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99ff99"/>
                </a:solidFill>
                <a:latin typeface="Trebuchet MS"/>
              </a:rPr>
              <a:t>Assign Names to Reusable Groups</a:t>
            </a:r>
            <a:endParaRPr b="1" lang="en-US" sz="4000" spc="-1" strike="noStrike">
              <a:solidFill>
                <a:srgbClr val="99ff99"/>
              </a:solidFill>
              <a:latin typeface="Trebuchet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52280" y="1142640"/>
            <a:ext cx="8839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Define reusable group with top-level </a:t>
            </a:r>
            <a:r>
              <a:rPr b="1" lang="en-GB" sz="3200" spc="-1" strike="noStrike">
                <a:solidFill>
                  <a:srgbClr val="000000"/>
                </a:solidFill>
                <a:latin typeface="Courier New"/>
              </a:rPr>
              <a:t>xs:group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 el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name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attribute specifies name of group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content must be a model group (sequence, choice or all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Refer to named group using </a:t>
            </a:r>
            <a:r>
              <a:rPr b="1" lang="en-GB" sz="3200" spc="-1" strike="noStrike">
                <a:solidFill>
                  <a:srgbClr val="000000"/>
                </a:solidFill>
                <a:latin typeface="Courier New"/>
              </a:rPr>
              <a:t>xs:group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 element with </a:t>
            </a:r>
            <a:r>
              <a:rPr b="1" lang="en-GB" sz="3200" spc="-1" strike="noStrike">
                <a:solidFill>
                  <a:srgbClr val="000000"/>
                </a:solidFill>
                <a:latin typeface="Courier New"/>
              </a:rPr>
              <a:t>ref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 attribut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References indicate occurrence, definition does no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No circular definitions of group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XML Schema: XML Structur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73D06-EB9F-4D4F-8432-64353142AD15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FFDAD3-FCE7-4130-8C95-430C13C6426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99ff99"/>
                </a:solidFill>
                <a:latin typeface="Trebuchet MS"/>
              </a:rPr>
              <a:t>Using Named Model Groups</a:t>
            </a:r>
            <a:endParaRPr b="1" lang="en-US" sz="4000" spc="-1" strike="noStrike">
              <a:solidFill>
                <a:srgbClr val="99ff99"/>
              </a:solidFill>
              <a:latin typeface="Trebuchet MS"/>
            </a:endParaRPr>
          </a:p>
        </p:txBody>
      </p:sp>
      <p:sp>
        <p:nvSpPr>
          <p:cNvPr id="163" name=""/>
          <p:cNvSpPr/>
          <p:nvPr/>
        </p:nvSpPr>
        <p:spPr>
          <a:xfrm>
            <a:off x="228600" y="1143000"/>
            <a:ext cx="8686800" cy="5181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xs:group name="terminus"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xs:sequence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xs:element ref="fl:airport" /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xs:element ref="fl:flightCode" /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/xs:sequence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/xs:group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xs:element name="depart"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xs:complexType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xs:group ref="fl:terminus" /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/xs:complexType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/xs:element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xs:element name="arrive"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xs:complexType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xs:group ref="fl:terminus" /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/xs:complexType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/xs:element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XML Schema: XML Structur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E8639-F4AD-4990-8220-D8ACABC936F3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3FC3BA-9993-41DA-8A96-D5F163509AF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1447560"/>
            <a:ext cx="8153280" cy="114300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99ff99"/>
                </a:solidFill>
                <a:latin typeface="Trebuchet MS"/>
              </a:rPr>
              <a:t>XML Schema Structures</a:t>
            </a:r>
            <a:endParaRPr b="1" lang="en-US" sz="4800" spc="-1" strike="noStrike">
              <a:solidFill>
                <a:srgbClr val="99ff99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295280" y="3200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Content Model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99ff99"/>
                </a:solidFill>
                <a:latin typeface="Trebuchet MS"/>
              </a:rPr>
              <a:t>Defining Recursive Structures</a:t>
            </a:r>
            <a:endParaRPr b="1" lang="en-US" sz="4000" spc="-1" strike="noStrike">
              <a:solidFill>
                <a:srgbClr val="99ff99"/>
              </a:solidFill>
              <a:latin typeface="Trebuchet MS"/>
            </a:endParaRPr>
          </a:p>
        </p:txBody>
      </p:sp>
      <p:sp>
        <p:nvSpPr>
          <p:cNvPr id="165" name=""/>
          <p:cNvSpPr/>
          <p:nvPr/>
        </p:nvSpPr>
        <p:spPr>
          <a:xfrm>
            <a:off x="228600" y="1371600"/>
            <a:ext cx="8686800" cy="4724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xs:element name="section"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xs:complexType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xs:group ref="section" /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/xs:complexType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/xs:element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xs:group name="section"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xs:sequence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xs:element name="title" type="xs:string" /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xs:choice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xs:element ref="section" maxOccurs="unbounded" /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xs:element ref="para" maxOccurs="unbounded" /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/xs:choice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/xs:sequence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/xs:group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XML Schema: XML Structur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3EB72-FC76-4BCB-96A2-5EEF72BFDF93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E06A42-C219-4305-999B-8008E776F20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99ff99"/>
                </a:solidFill>
                <a:latin typeface="Trebuchet MS"/>
              </a:rPr>
              <a:t>Attribute Groups</a:t>
            </a:r>
            <a:endParaRPr b="1" lang="en-US" sz="4000" spc="-1" strike="noStrike">
              <a:solidFill>
                <a:srgbClr val="99ff99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52280" y="1142640"/>
            <a:ext cx="8839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efine groups of attributes with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xs:attributeGroup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imilar to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xs:group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efine at top level of schema with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name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attribu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efer to in type definitions or other attribute groups with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f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attribu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228600" y="3124080"/>
            <a:ext cx="8686800" cy="32004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xs:attributeGroup name="common"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xs:attribute name="id" type="xs:ID" /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xs:attribute name="class" type="xs:NMTOKENS" /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/xs:attributeGroup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xs:element name="p"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xs:complexType mixed="true"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xs:group ref="html:inline" /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xs:attributeGroup ref="html:common" /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/xs:complexType&gt;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/xs:element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XML Schema: XML Structur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E4045-F110-4320-B516-0B2EB9355F79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4FF6FC-87EC-42F0-B25C-01A0D8BD70E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99ff99"/>
                </a:solidFill>
                <a:latin typeface="Trebuchet MS"/>
              </a:rPr>
              <a:t>Summary</a:t>
            </a:r>
            <a:endParaRPr b="1" lang="en-US" sz="4000" spc="-1" strike="noStrike">
              <a:solidFill>
                <a:srgbClr val="99ff99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52280" y="1142640"/>
            <a:ext cx="8839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Content models similar to DTD but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an specify "all" model group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an use wildcards in place of named elem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an constrain element occurrence in mixed cont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Elements and attributes can be declared globally or local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Watch the namespaces!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Elements can have fixed or default valu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Model groups and groups of attributes can be named and referred to for reusabil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XML Schema: XML Structur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DBD66-8A3B-401B-9BFB-3B0AB2148AF9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45D713-E6F9-4A4C-8FB0-496EC794DC9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99ff99"/>
                </a:solidFill>
                <a:latin typeface="Trebuchet MS"/>
              </a:rPr>
              <a:t>Exercises</a:t>
            </a:r>
            <a:endParaRPr b="1" lang="en-US" sz="4000" spc="-1" strike="noStrike">
              <a:solidFill>
                <a:srgbClr val="99ff99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2280" y="1142640"/>
            <a:ext cx="8839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Specify content models for elem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dd attribute declara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Optionally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dd wildcards for extensibil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Create reusable model groups and attribute group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Experiment with global and local declarations with qualified and unqualified form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XML Schema: XML Structur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DD0BE-85E6-4906-BEF9-924CB74589BE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96EBB1-D9E2-49BD-8736-8AA711F9843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99ff99"/>
                </a:solidFill>
                <a:latin typeface="Trebuchet MS"/>
              </a:rPr>
              <a:t>DTD Content Models</a:t>
            </a:r>
            <a:endParaRPr b="1" lang="en-US" sz="4000" spc="-1" strike="noStrike">
              <a:solidFill>
                <a:srgbClr val="99ff99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52280" y="1142640"/>
            <a:ext cx="8839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Elements referred to by nam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Two types of model group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equences (</a:t>
            </a: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…,…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Choices (</a:t>
            </a: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…|…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Four levels of occurre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One and only one (default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Optional (</a:t>
            </a: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?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One or more (</a:t>
            </a: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Zero or more (</a:t>
            </a: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XML Schema: XML Structur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D9508-1156-4303-9B10-5CB5505EF85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3B585B-A4A2-445A-B694-A6E4A1D4E6C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99ff99"/>
                </a:solidFill>
                <a:latin typeface="Trebuchet MS"/>
              </a:rPr>
              <a:t>XML Schema Content Models</a:t>
            </a:r>
            <a:endParaRPr b="1" lang="en-US" sz="4000" spc="-1" strike="noStrike">
              <a:solidFill>
                <a:srgbClr val="99ff99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52280" y="1142640"/>
            <a:ext cx="8839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Elements referred to through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0008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ref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ttribute on </a:t>
            </a: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xs:el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0008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xs:any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wildcar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Three types of model group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0008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xs:seque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0008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xs:choi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0008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xs:al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Numerical occurrence indicators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0008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minOccurs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(0 or more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0008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maxOccurs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(1 or more, or </a:t>
            </a: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unbounded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XML Schema: XML Structur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79EC6-A43F-4A25-9873-5C5710742B6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F97311-C764-424D-A734-BFA66178AB7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99ff99"/>
                </a:solidFill>
                <a:latin typeface="Trebuchet MS"/>
              </a:rPr>
              <a:t>Content Model</a:t>
            </a:r>
            <a:endParaRPr b="1" lang="en-US" sz="4000" spc="-1" strike="noStrike">
              <a:solidFill>
                <a:srgbClr val="99ff99"/>
              </a:solidFill>
              <a:latin typeface="Trebuchet MS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1219320"/>
            <a:ext cx="8686800" cy="7617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!ELEMENT flight (depart, arrive, price+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direct | (leg, leg, (leg, leg?)?))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2057400"/>
            <a:ext cx="8686800" cy="43434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xs:element name="flight"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xs:complexType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xs:sequence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xs:element ref="fl:depart" /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xs:element ref="fl:arrive" /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xs:element ref="fl:price" maxOccurs="unbounded" /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xs:choice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xs:element ref="fl:direct" /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xs:element ref="fl:leg" minOccurs="2"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          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maxOccurs="4" /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/xs:choice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/xs:sequence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/xs:complexType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/xs:element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XML Schema: XML Structur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2FA51-D2DA-44FE-AEE1-C9ED051AE1BC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BC18BB-C8B9-4D91-87CD-E147FC07177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99ff99"/>
                </a:solidFill>
                <a:latin typeface="Trebuchet MS"/>
              </a:rPr>
              <a:t>"All" Content Models</a:t>
            </a:r>
            <a:endParaRPr b="1" lang="en-US" sz="4000" spc="-1" strike="noStrike">
              <a:solidFill>
                <a:srgbClr val="99ff99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52280" y="1142640"/>
            <a:ext cx="8839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8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xs:all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says "all of these elements, in any order"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ommon requirement in data-oriented XM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ome pretty severe limitation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an only contain element partic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80008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an't say "this sequence and this choice in any order"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Elements can only be optional or appear just o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80008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an't say "element X and five of element Y, in any order"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annot appear within other content mode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80008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an't have a choice between two all content model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annot occur more than o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80008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maxOccurs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for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xs:all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is always 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XML Schema: XML Structur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0DF90-A9D5-44FC-9781-200D8D1FDF4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B2CCC1-50A2-4DB3-950F-3BE3442CCE2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99ff99"/>
                </a:solidFill>
                <a:latin typeface="Trebuchet MS"/>
              </a:rPr>
              <a:t>"All" content models</a:t>
            </a:r>
            <a:endParaRPr b="1" lang="en-US" sz="4000" spc="-1" strike="noStrike">
              <a:solidFill>
                <a:srgbClr val="99ff99"/>
              </a:solidFill>
              <a:latin typeface="Trebuchet MS"/>
            </a:endParaRPr>
          </a:p>
        </p:txBody>
      </p:sp>
      <p:sp>
        <p:nvSpPr>
          <p:cNvPr id="97" name=""/>
          <p:cNvSpPr/>
          <p:nvPr/>
        </p:nvSpPr>
        <p:spPr>
          <a:xfrm>
            <a:off x="228600" y="1295280"/>
            <a:ext cx="8686800" cy="2819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xs:element name="airport"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xs:complexType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xs:all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xs:element ref="fl:name" /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xs:element ref="fl:code" /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xs:element ref="fl:city" minOccurs="0" /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/xs:all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/xs:complexType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/xs:element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"/>
          <p:cNvSpPr/>
          <p:nvPr/>
        </p:nvSpPr>
        <p:spPr>
          <a:xfrm>
            <a:off x="304920" y="4267080"/>
            <a:ext cx="3657600" cy="1676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airport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name&gt;Heathrow&lt;/name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code&gt;LHR&lt;/code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city&gt;London&lt;/city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/airport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"/>
          <p:cNvSpPr/>
          <p:nvPr/>
        </p:nvSpPr>
        <p:spPr>
          <a:xfrm>
            <a:off x="1523880" y="4572000"/>
            <a:ext cx="3657600" cy="1676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airport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name&gt;Heathrow&lt;/name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city&gt;London&lt;/city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code&gt;LHR&lt;/code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/airport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"/>
          <p:cNvSpPr/>
          <p:nvPr/>
        </p:nvSpPr>
        <p:spPr>
          <a:xfrm>
            <a:off x="2743200" y="4419720"/>
            <a:ext cx="3657600" cy="1676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airport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city&gt;London&lt;/city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name&gt;Heathrow&lt;/name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code&gt;LHR&lt;/code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/airport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"/>
          <p:cNvSpPr/>
          <p:nvPr/>
        </p:nvSpPr>
        <p:spPr>
          <a:xfrm>
            <a:off x="3962520" y="4267080"/>
            <a:ext cx="3657600" cy="1676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airport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city&gt;London&lt;/city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code&gt;LHR&lt;/code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name&gt;Heathrow&lt;/name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/airport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4572000"/>
            <a:ext cx="3657600" cy="1676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airport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code&gt;LHR&lt;/code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city&gt;London&lt;/city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name&gt;Heathrow&lt;/name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/airport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XML Schema: XML Structur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EA22E-F215-453F-8F60-56DE28EE8802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936551-1BFB-41F3-B771-EDB05D2BDEB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99ff99"/>
                </a:solidFill>
                <a:latin typeface="Trebuchet MS"/>
              </a:rPr>
              <a:t>Element Wildcards</a:t>
            </a:r>
            <a:endParaRPr b="1" lang="en-US" sz="4000" spc="-1" strike="noStrike">
              <a:solidFill>
                <a:srgbClr val="99ff99"/>
              </a:solidFill>
              <a:latin typeface="Trebuchet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52280" y="1142640"/>
            <a:ext cx="8839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Use </a:t>
            </a:r>
            <a:r>
              <a:rPr b="1" lang="en-GB" sz="3200" spc="-1" strike="noStrike">
                <a:solidFill>
                  <a:srgbClr val="000000"/>
                </a:solidFill>
                <a:latin typeface="Courier New"/>
              </a:rPr>
              <a:t>xs:any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 in place of </a:t>
            </a:r>
            <a:r>
              <a:rPr b="1" lang="en-GB" sz="3200" spc="-1" strike="noStrike">
                <a:solidFill>
                  <a:srgbClr val="000000"/>
                </a:solidFill>
                <a:latin typeface="Courier New"/>
              </a:rPr>
              <a:t>xs:element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 for "any element"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Limit namespaces with </a:t>
            </a:r>
            <a:r>
              <a:rPr b="1" lang="en-GB" sz="3200" spc="-1" strike="noStrike">
                <a:solidFill>
                  <a:srgbClr val="000000"/>
                </a:solidFill>
                <a:latin typeface="Courier New"/>
              </a:rPr>
              <a:t>namespace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 attribut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0008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##all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(default) – any namespa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0008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##other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– any namespace other than the target namespa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List of namespace URI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80008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##local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for no namespa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80008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##targetNamespace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for target namespa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XML Schema: XML Structur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93528-1007-431E-8F08-8B7237C85095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6951F3-DB42-4B14-8BBF-2A158FAF253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03T10:47:40Z</dcterms:created>
  <dc:creator>Jeni Tennison</dc:creator>
  <dc:description/>
  <dc:language>en-US</dc:language>
  <cp:lastModifiedBy>Jeni Tennison</cp:lastModifiedBy>
  <dcterms:modified xsi:type="dcterms:W3CDTF">2002-07-30T06:58:11Z</dcterms:modified>
  <cp:revision>17</cp:revision>
  <dc:subject/>
  <dc:title>XML Schema</dc:title>
</cp:coreProperties>
</file>