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9DD-0966-454E-9E0D-BFAFF8E7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253-C54C-47F8-9C84-08E60CCB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EE9-E10B-4EBE-82C4-C08C6E5D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A33-32FC-4095-9121-D9E222C5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D9E-82A5-499B-A3C1-C3720696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E33-AFA6-4E74-BE51-062B61EC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1692-D236-46E9-A2E4-C4C601E1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A9C-3A56-45D2-AF53-2E7AD243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C95-54DB-442D-98DB-65C40368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0F7-21D4-4362-BDAD-551E6F3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575-3F57-4ABD-AF3F-5485972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BBD-8986-4677-AD5D-611D93B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548-2FB4-4C9E-85A2-80B6D4A7D0EF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7B38-75DC-485D-A8A8-E930C8AACDF7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 Fundamental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l operations are done on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fose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of physical docu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"elements" rather than "tags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 document is interpreted as a conceptual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ement is interpreted as an element decl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schema documents become a single conceptual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A6A-1801-45DD-BA3A-09B8E846FB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9F921-42E3-4717-91AC-39308BCB6E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 Construc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2952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ysic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0384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ema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657600" y="54100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ema info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2666880"/>
            <a:ext cx="2057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4038480"/>
            <a:ext cx="2057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il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7" name=""/>
          <p:cNvCxnSpPr>
            <a:stCxn id="102" idx="2"/>
            <a:endCxn id="105" idx="0"/>
          </p:cNvCxnSpPr>
          <p:nvPr/>
        </p:nvCxnSpPr>
        <p:spPr>
          <a:xfrm flipV="1" rot="10800000">
            <a:off x="1561320" y="2209320"/>
            <a:ext cx="1080" cy="457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  <a:endCxn id="103" idx="0"/>
          </p:cNvCxnSpPr>
          <p:nvPr/>
        </p:nvCxnSpPr>
        <p:spPr>
          <a:xfrm flipV="1" rot="10800000">
            <a:off x="1561320" y="3580920"/>
            <a:ext cx="1080" cy="457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6629400" y="12952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ysic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40384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ema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2666880"/>
            <a:ext cx="2057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2" name=""/>
          <p:cNvCxnSpPr>
            <a:stCxn id="109" idx="2"/>
            <a:endCxn id="111" idx="0"/>
          </p:cNvCxnSpPr>
          <p:nvPr/>
        </p:nvCxnSpPr>
        <p:spPr>
          <a:xfrm flipV="1" rot="10800000">
            <a:off x="7504920" y="2209320"/>
            <a:ext cx="1080" cy="457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11" idx="4"/>
            <a:endCxn id="110" idx="0"/>
          </p:cNvCxnSpPr>
          <p:nvPr/>
        </p:nvCxnSpPr>
        <p:spPr>
          <a:xfrm flipV="1" rot="10800000">
            <a:off x="7504920" y="3580920"/>
            <a:ext cx="1080" cy="457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3" idx="3"/>
            <a:endCxn id="106" idx="2"/>
          </p:cNvCxnSpPr>
          <p:nvPr/>
        </p:nvCxnSpPr>
        <p:spPr>
          <a:xfrm>
            <a:off x="2438280" y="4495320"/>
            <a:ext cx="10677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0" idx="1"/>
            <a:endCxn id="106" idx="6"/>
          </p:cNvCxnSpPr>
          <p:nvPr/>
        </p:nvCxnSpPr>
        <p:spPr>
          <a:xfrm rot="10800000">
            <a:off x="5562000" y="4494960"/>
            <a:ext cx="106740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4"/>
            <a:endCxn id="104" idx="0"/>
          </p:cNvCxnSpPr>
          <p:nvPr/>
        </p:nvCxnSpPr>
        <p:spPr>
          <a:xfrm flipV="1" rot="10800000">
            <a:off x="4533120" y="4952520"/>
            <a:ext cx="1080" cy="457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657600" y="26668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ema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8" name=""/>
          <p:cNvCxnSpPr>
            <a:stCxn id="117" idx="2"/>
            <a:endCxn id="106" idx="0"/>
          </p:cNvCxnSpPr>
          <p:nvPr/>
        </p:nvCxnSpPr>
        <p:spPr>
          <a:xfrm flipV="1" rot="10800000">
            <a:off x="4533120" y="3580920"/>
            <a:ext cx="1080" cy="457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97F-2D06-4C6B-8278-C3FC3E79C2A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33CEE-2264-412E-93A2-0AE70F1341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Representations of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possibl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XML representation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the same conceptual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ght split up the schema into different physical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ght use different element or attribute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traints on XML Schema documents break down in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straints on the underlying conceptua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straints on the XML representation of the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's possible to write an XML Schema document that's an OK XML representation, but not an OK conceptual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2C22-94FB-448A-8D65-5D1C9D1D7D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363A7-1A9B-4791-89FD-11E993303E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Valida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hysical instance document parsed into XML infos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idator augments infoset to create Post-Schema Validation Infoset (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PSVI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icates validity/invalidity of n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ds default/fixed attributes &amp; te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ks "nil"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notates nodes with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 schema it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1A9B-CBDE-4FFB-AF02-EEF2A2B9CB1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DB068-4C07-4A9B-9DE1-292F1AA320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Valida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167652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hysical 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7242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stance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20040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chema info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3200400"/>
            <a:ext cx="2057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4724280"/>
            <a:ext cx="2057400" cy="914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id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9" name=""/>
          <p:cNvCxnSpPr>
            <a:stCxn id="124" idx="2"/>
            <a:endCxn id="127" idx="0"/>
          </p:cNvCxnSpPr>
          <p:nvPr/>
        </p:nvCxnSpPr>
        <p:spPr>
          <a:xfrm flipV="1" rot="10800000">
            <a:off x="1561320" y="2590560"/>
            <a:ext cx="1080" cy="610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7" idx="4"/>
            <a:endCxn id="125" idx="0"/>
          </p:cNvCxnSpPr>
          <p:nvPr/>
        </p:nvCxnSpPr>
        <p:spPr>
          <a:xfrm flipV="1" rot="10800000">
            <a:off x="1561320" y="4114440"/>
            <a:ext cx="1080" cy="610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6629400" y="4724280"/>
            <a:ext cx="17524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S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"/>
          <p:cNvCxnSpPr>
            <a:stCxn id="125" idx="3"/>
            <a:endCxn id="128" idx="2"/>
          </p:cNvCxnSpPr>
          <p:nvPr/>
        </p:nvCxnSpPr>
        <p:spPr>
          <a:xfrm>
            <a:off x="2438280" y="5181120"/>
            <a:ext cx="106776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6"/>
            <a:endCxn id="131" idx="1"/>
          </p:cNvCxnSpPr>
          <p:nvPr/>
        </p:nvCxnSpPr>
        <p:spPr>
          <a:xfrm>
            <a:off x="5562360" y="5181120"/>
            <a:ext cx="1067400" cy="1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2"/>
            <a:endCxn id="128" idx="0"/>
          </p:cNvCxnSpPr>
          <p:nvPr/>
        </p:nvCxnSpPr>
        <p:spPr>
          <a:xfrm flipV="1" rot="10800000">
            <a:off x="4533120" y="4114440"/>
            <a:ext cx="1080" cy="610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0CE-5CF1-4D00-84D2-64ED354143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E6DB2-7BB5-4D7B-BB99-4CB0BBAAF6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PSVI Processing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SVI provides augmented infoset for downstream 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SLT/XPath &amp; XQu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Path/XSLT 2.0 and XQuery 2.0 use PSVI information (though not the same data model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X &amp; DOM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rrently no standard API for access to PS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ssing PSVIs between applications requires serialised versions of PSVI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SV's PSVI as X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 Norton's type tag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342A-C7BD-4E8C-8AC5-F26F6B296D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586A8-0F95-4F49-96ED-644AC5C24D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Introduction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ndamental Concep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Information Item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fosets are made up of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nformation i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XML infoset def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SVI def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imple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s, numbers, date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mplex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tributes and sequences of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89A-D5EE-4DDC-BCAE-6994080D0A6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20FB8-8FE2-43FE-9CDE-8CD84DD481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Information Item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2362320"/>
            <a:ext cx="2438280" cy="104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4114800"/>
            <a:ext cx="2438280" cy="1041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2362320"/>
            <a:ext cx="2438280" cy="104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4114800"/>
            <a:ext cx="2438280" cy="1041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6" name=""/>
          <p:cNvCxnSpPr>
            <a:stCxn id="142" idx="3"/>
            <a:endCxn id="144" idx="1"/>
          </p:cNvCxnSpPr>
          <p:nvPr/>
        </p:nvCxnSpPr>
        <p:spPr>
          <a:xfrm>
            <a:off x="3657240" y="2882520"/>
            <a:ext cx="1677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2"/>
            <a:endCxn id="145" idx="0"/>
          </p:cNvCxnSpPr>
          <p:nvPr/>
        </p:nvCxnSpPr>
        <p:spPr>
          <a:xfrm>
            <a:off x="2437920" y="3403440"/>
            <a:ext cx="1080" cy="71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3" idx="1"/>
            <a:endCxn id="145" idx="3"/>
          </p:cNvCxnSpPr>
          <p:nvPr/>
        </p:nvCxnSpPr>
        <p:spPr>
          <a:xfrm flipH="1">
            <a:off x="3656880" y="4635000"/>
            <a:ext cx="1677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4" idx="0"/>
            <a:endCxn id="142" idx="0"/>
          </p:cNvCxnSpPr>
          <p:nvPr/>
        </p:nvCxnSpPr>
        <p:spPr>
          <a:xfrm rot="5400000">
            <a:off x="4494240" y="305640"/>
            <a:ext cx="2160" cy="4115520"/>
          </a:xfrm>
          <a:prstGeom prst="curvedConnector5">
            <a:avLst>
              <a:gd name="adj1" fmla="val -36800000"/>
              <a:gd name="adj2" fmla="val 49995"/>
              <a:gd name="adj3" fmla="val -36800000"/>
            </a:avLst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50" name=""/>
          <p:cNvCxnSpPr>
            <a:stCxn id="144" idx="2"/>
            <a:endCxn id="143" idx="0"/>
          </p:cNvCxnSpPr>
          <p:nvPr/>
        </p:nvCxnSpPr>
        <p:spPr>
          <a:xfrm flipV="1" rot="10800000">
            <a:off x="6552360" y="3403080"/>
            <a:ext cx="1080" cy="71208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39DD-BB21-43AD-8380-9E4B4D50E21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EAECE-96B0-4002-803E-11F2F3A8BE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 Component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 components declare constraints on information items in the in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cla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lement decl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Attribute decl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imple type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for attributes and text-only elements without attribu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mplex type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ed for elements with attributes or element cont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42CF-B78A-4C35-823F-31242E89A9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D6FB1-B09E-42BB-81A6-59E276D285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bjectives of schema langu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do we want a schema anywa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XML Schema 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re does XML Schema come from and how do we use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inciple features of XML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at are the main parts of an XML Schem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y first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K, let's write one the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0E35-4168-42AA-ACE9-34D6B7F19DD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D8121-553E-4E33-9A71-2FCFB554E8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 Component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362320"/>
            <a:ext cx="2438280" cy="104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4114800"/>
            <a:ext cx="2438280" cy="1041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tribute decla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362320"/>
            <a:ext cx="2438280" cy="1041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type 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114800"/>
            <a:ext cx="2438280" cy="1041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type 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58" name=""/>
          <p:cNvCxnSpPr>
            <a:stCxn id="154" idx="3"/>
            <a:endCxn id="156" idx="1"/>
          </p:cNvCxnSpPr>
          <p:nvPr/>
        </p:nvCxnSpPr>
        <p:spPr>
          <a:xfrm>
            <a:off x="3657240" y="2882520"/>
            <a:ext cx="1677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4" idx="2"/>
            <a:endCxn id="157" idx="0"/>
          </p:cNvCxnSpPr>
          <p:nvPr/>
        </p:nvCxnSpPr>
        <p:spPr>
          <a:xfrm>
            <a:off x="2437920" y="3403440"/>
            <a:ext cx="1080" cy="71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5" idx="1"/>
            <a:endCxn id="157" idx="3"/>
          </p:cNvCxnSpPr>
          <p:nvPr/>
        </p:nvCxnSpPr>
        <p:spPr>
          <a:xfrm flipH="1">
            <a:off x="3656880" y="4635000"/>
            <a:ext cx="1677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0"/>
            <a:endCxn id="154" idx="0"/>
          </p:cNvCxnSpPr>
          <p:nvPr/>
        </p:nvCxnSpPr>
        <p:spPr>
          <a:xfrm rot="5400000">
            <a:off x="4494240" y="305640"/>
            <a:ext cx="2160" cy="4115520"/>
          </a:xfrm>
          <a:prstGeom prst="curvedConnector5">
            <a:avLst>
              <a:gd name="adj1" fmla="val -35200000"/>
              <a:gd name="adj2" fmla="val 49995"/>
              <a:gd name="adj3" fmla="val -35200000"/>
            </a:avLst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62" name=""/>
          <p:cNvCxnSpPr>
            <a:stCxn id="156" idx="2"/>
            <a:endCxn id="155" idx="0"/>
          </p:cNvCxnSpPr>
          <p:nvPr/>
        </p:nvCxnSpPr>
        <p:spPr>
          <a:xfrm flipV="1" rot="10800000">
            <a:off x="6552360" y="3403080"/>
            <a:ext cx="1080" cy="712080"/>
          </a:xfrm>
          <a:prstGeom prst="curvedConnector2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094-F26C-4E4E-8EF2-7152ED37F6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6EE61-1C65-49F7-8CAC-C7B90518D4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Target Namespa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 components (can) have n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can be anonymous, elements and attributes can'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names are QNam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ve a local part and a namespace U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the components in a schema document have the same namespace U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nown as the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arget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validate a document that uses several namespaces, you must have several schema doc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FDB1-8602-4FE0-A08C-B9B9A0B75D8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D9F90-D9C5-47E6-93D4-FBADA7EF1F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schema languages are useful for different tasks and mark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s have an XML representation, but are defined at a conceptu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schema documents combine to create a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ating with a schema creates a PS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s cont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 and attribute decl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and simple type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 documents each have their own target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B48C-6E1D-4461-B464-490A592A28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8EAB2-36C2-4133-ACB0-2E66AE85C2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Introduction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y First XML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 Documen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cument element is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n specify target namespace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targetNamespac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ssing attribute means no target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4038480"/>
            <a:ext cx="8610480" cy="1981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chema xmlns:xs="http://www.w3.org/2001/XMLSchema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Namespace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mlns:fl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ementFormDefault="qualifie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99E-DAAD-4286-89B3-188E659762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D69FA-339E-474B-98D1-69284BCA0C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 Namespac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ML Schema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www.w3.org/2001/XML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schema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associated with prefix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ML Schema Instance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www.w3.org/2001/XMLSchema-ins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in instance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associated with prefix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ML Schema Datatypes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www.w3.org/2001/XMLSchema-data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d by other languages (e.g. RELAX 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3A99-AA27-4718-99F0-E62EAC15588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42526-1376-4D78-9636-E076ADFCC4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lement Declara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clare element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specifies (local) 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ociate with type in three way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fer to named complex or simpl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complex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onymous complex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onymous simpl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5EB-1AB0-444E-9988-29F464D4D53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5037A-0094-46A8-A5B8-11B382CDCA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lement Declara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ements with any content or attribu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ements with text cont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mpty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733920"/>
            <a:ext cx="86868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xs:element name="airport" type="xs:string" /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1828800"/>
            <a:ext cx="86868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xs:element name="flights" type="xs:anyType" /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438280"/>
            <a:ext cx="86868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xs:element name="flights" /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029200"/>
            <a:ext cx="868680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xs:element name="directFlight"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xs:complexType /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EEA-C13E-4E42-867B-9BE4385ED9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22027-5B95-4D17-9105-31BC162D50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ocumenta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ery XML Schema element can have an annotation 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annota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contain or point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cumentation (in various languag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docu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ication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app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267080"/>
            <a:ext cx="8229600" cy="2057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lement name="flights" type="xs:anyType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annota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documenta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ains information about possible fligh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documenta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annotation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B03-8CC5-40B6-A6A3-F148D5F825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C244D-181C-4E9E-AA37-20B6611864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Instance Documen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int to schemas from instance doc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:noNamespaceSchemaLoc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gives location of schema for elements in no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i:schemaLoc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gives location of schemas for elements in a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irs of namespace URIs and l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you don't specify a schema, validators are free to try to find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built-in schema (e.g. for XML namespa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y resolving the namespace UR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s are combined for valid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AFC5-D3B5-403F-8693-A2F33A46342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30B97-4DF4-4769-ABEF-1099E2CB6D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Introduction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 Languages and their Objec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ithout Namespa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3733920"/>
            <a:ext cx="8610480" cy="23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chema xmlns:xs="http://www.w3.org/2001/XMLSchema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s" type="xs:anyTyp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 type="xs:anyTyp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447920"/>
            <a:ext cx="86104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ights xsi:noNamespaceSchemaLocation="flights.xs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mlns:xsi="http://www.w3.org/2001/XMLSchema-instanc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flights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0" name=""/>
          <p:cNvCxnSpPr>
            <a:stCxn id="189" idx="2"/>
            <a:endCxn id="188" idx="0"/>
          </p:cNvCxnSpPr>
          <p:nvPr/>
        </p:nvCxnSpPr>
        <p:spPr>
          <a:xfrm>
            <a:off x="4533480" y="2819520"/>
            <a:ext cx="1080" cy="915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183F-AE87-4B42-8AF0-EDFD936EB95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70E03-0C03-453B-A897-2DA674FF1F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ith Namespa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114800"/>
            <a:ext cx="861048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chema xmlns:xs="http://www.w3.org/2001/XMLSchema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Namespace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mlns:fl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ementFormDefault="qualifie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1447920"/>
            <a:ext cx="861048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ights xmlns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i:schemaLocation="http://www.example.com/fli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lights.xsd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mlns:xsi="http://www.w3.org/2001/XMLSchema-instanc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flights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94" name=""/>
          <p:cNvCxnSpPr>
            <a:stCxn id="193" idx="2"/>
            <a:endCxn id="192" idx="0"/>
          </p:cNvCxnSpPr>
          <p:nvPr/>
        </p:nvCxnSpPr>
        <p:spPr>
          <a:xfrm>
            <a:off x="4533480" y="3428640"/>
            <a:ext cx="10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FC5-A4CA-4AB6-B25B-76329C1BE0B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BAB85F-BF6B-4C45-9467-8240B806E4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unning Topologi Validator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lect instance document on the lef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lect schema document on the r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it "Run…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5619600" cy="37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4AEA-59EB-4F42-A4DF-79F5708649A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78074-9B69-47C3-BB66-72633472C8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et familiar with exercise data and DT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reate a basic schema, containing an element declaration for each 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idate the instance docu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tional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iew the PSVI as XM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d a target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f you're impatie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defining content mo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specifying data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525-1A00-47C9-AA9D-83C1DC1421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0EDA4-2906-4B8B-8B36-5C8A5CA2CB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hy Have a Schema?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are information about the markup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eck that documents are in the markup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st authors writing in the markup language (auto-complet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eck queries working over or generating the markup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A30A-38B2-405D-8C17-8A1AD61E20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E3F72E-E00A-4D25-8006-18EE142A92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 Languag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T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n-XML synt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XML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bject-oriented language model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tr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ule-based constraint chec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LAX 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ular expressions for gramma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650F-FEEA-4956-935A-B000DF9E7C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F197A-A246-4983-83F7-91E41F0A0E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hat to Use, and Whe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is the schema going to be use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s it just for validation, or is it going to be used in authoring or query process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the language check what you need it to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schema languages check a subset of possible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ware particularly of co-occurrence constraints and unordered content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ider a central, canonical representation from which schemas can be deri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ways have a natural language descriptio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53A8-73EA-47A1-9033-660607586F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1DD26-2997-4FC9-A33C-CA02D6C9AC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Introduction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XML Schema Back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2001 Recommendations from W3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im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roduction to XML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ttp://www.w3.org/TR/xmlschema-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mal definition of schema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ttp://www.w3.org/TR/xmlschema-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ata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ition of built-in data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ttp://www.w3.org/TR/xmlschema-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C6C-DDD2-4FF6-8DD9-923CC37290F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9FA21-AA67-4CA2-B6DA-CDFD3BFA4D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 Applica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id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SXML4 (Microso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erces-J &amp; Xerces-C++ (Apach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SV (Henry Thompson &amp; Richard Tobi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 Quality Checker (SQC) (IB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 Schema Validator (MSV) (Su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pologi Schematron Validator (Topolog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di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ML Sp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0DC-D949-4D1C-9A8B-AAA32317162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D5CDED-DE2A-472D-8C4A-E4D48AF05E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5Z</dcterms:modified>
  <cp:revision>10</cp:revision>
  <dc:subject/>
  <dc:title>XML Schema</dc:title>
</cp:coreProperties>
</file>